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CC5-F7DD-4066-9137-270FD8FF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498-F7E4-4CB4-8A63-A29BF56A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7F4-8D34-4FAF-BC85-38135A58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5CE-CFD0-4A19-BC08-FE9E9423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BE6-708C-446A-89E8-DECA0AD4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326-CCB7-49CC-ACCD-2CCE9AA8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99A-DAD6-4CBF-830E-DEBBDE87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7E4-9896-496A-9A2F-26D81BFC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6AB-A965-47D1-92C7-636C5334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3D6-34BF-4885-A58E-D308C1E4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259-0775-42A8-9017-08C6BA2B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959-DB10-47DD-91D6-A5DEED7D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5595-A997-4EB2-BAF6-7F43E0A05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adbury is making a variety of rectangular chocolate bars. They have different numbers of pieces in them, with different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For example, their 6-piece chocolate bar can have two sha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 6 by 1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nd a 3 by 2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0" y="3352680"/>
            <a:ext cx="2136600" cy="357480"/>
            <a:chOff x="4572000" y="3352680"/>
            <a:chExt cx="2136600" cy="357480"/>
          </a:xfrm>
        </p:grpSpPr>
        <p:sp>
          <p:nvSpPr>
            <p:cNvPr id="44" name=""/>
            <p:cNvSpPr/>
            <p:nvPr/>
          </p:nvSpPr>
          <p:spPr>
            <a:xfrm>
              <a:off x="457200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2804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8408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4012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9652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256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724280" y="4419720"/>
            <a:ext cx="1069560" cy="711000"/>
            <a:chOff x="4724280" y="4419720"/>
            <a:chExt cx="1069560" cy="711000"/>
          </a:xfrm>
        </p:grpSpPr>
        <p:sp>
          <p:nvSpPr>
            <p:cNvPr id="51" name=""/>
            <p:cNvSpPr/>
            <p:nvPr/>
          </p:nvSpPr>
          <p:spPr>
            <a:xfrm>
              <a:off x="472536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8176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3780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2428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8032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3672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Using tidy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8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5  x  50) -  (5 x 2)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50     -     10   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 Cit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actors of the number at the bottom of the column in the boxes above the bas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1    2     3    4     5    6    7    8    9    10   11  12   13  14  15  16  17   18  19   20  21  22  23   24 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1600200"/>
          <a:ext cx="7772400" cy="4657680"/>
        </p:xfrm>
        <a:graphic>
          <a:graphicData uri="http://schemas.openxmlformats.org/drawingml/2006/table">
            <a:tbl>
              <a:tblPr/>
              <a:tblGrid>
                <a:gridCol w="312480"/>
                <a:gridCol w="309600"/>
                <a:gridCol w="312840"/>
                <a:gridCol w="307800"/>
                <a:gridCol w="311400"/>
                <a:gridCol w="311040"/>
                <a:gridCol w="311040"/>
                <a:gridCol w="311400"/>
                <a:gridCol w="311040"/>
                <a:gridCol w="309600"/>
                <a:gridCol w="311040"/>
                <a:gridCol w="311400"/>
                <a:gridCol w="311040"/>
                <a:gridCol w="311040"/>
                <a:gridCol w="311040"/>
                <a:gridCol w="309600"/>
                <a:gridCol w="311400"/>
                <a:gridCol w="311040"/>
                <a:gridCol w="311040"/>
                <a:gridCol w="311400"/>
                <a:gridCol w="311040"/>
                <a:gridCol w="307800"/>
                <a:gridCol w="312840"/>
                <a:gridCol w="309600"/>
                <a:gridCol w="31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2 times table) or 5 times table BU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ents stand in a group with each student numbering off. Every time the number is a multiple of 5, they do not say the number, they say “Buzz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students in a group would go 1, 2, 3, 4, buzz, 6, 7, 8, 9,”buzz”, 11, 12, 13, 14, “buzz”, etc. If a student makes a mistake, they have to sit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ry multiples of other numbers eg 6, 7 o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gon whe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752480"/>
          <a:ext cx="403884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4038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952880" y="1905120"/>
          <a:ext cx="3886200" cy="36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05120"/>
                    <a:ext cx="388620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ask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ork out and draw the different shapes Cadbury can make for chocolate bars with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8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2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24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ask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Write down all the different shapes Cadbury can make for chocolate bars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2743200"/>
          <a:ext cx="6781320" cy="2819520"/>
        </p:xfrm>
        <a:graphic>
          <a:graphicData uri="http://schemas.openxmlformats.org/drawingml/2006/table">
            <a:tbl>
              <a:tblPr/>
              <a:tblGrid>
                <a:gridCol w="3390480"/>
                <a:gridCol w="3390840"/>
              </a:tblGrid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Making chocolate bars        Task Thre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opy and complete this table for the number of pieces in chocolate bars with these lengths and width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ength  1       2      3       4       5       6       7       8       9 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828800"/>
          <a:ext cx="6248520" cy="4657680"/>
        </p:xfrm>
        <a:graphic>
          <a:graphicData uri="http://schemas.openxmlformats.org/drawingml/2006/table">
            <a:tbl>
              <a:tblPr/>
              <a:tblGrid>
                <a:gridCol w="695520"/>
                <a:gridCol w="691920"/>
                <a:gridCol w="695520"/>
                <a:gridCol w="695160"/>
                <a:gridCol w="692280"/>
                <a:gridCol w="695160"/>
                <a:gridCol w="695520"/>
                <a:gridCol w="692280"/>
                <a:gridCol w="695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94360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44792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1523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 three numbers below, and show how they are related by multiplication or divi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4                    3                      48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2                32                    36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                       12              24                16             6               8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              96                        4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three numbers below, and show how they are related by multiplication or divi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            90               45                  15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              2                 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0           120             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                 10                 50            60               75                 20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                   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If  4 x 3 =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3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2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3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0 x 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9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7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Doubling and hal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e 1 and halve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.g.   5  x  48  =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 x  24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e 1 number in the question and halve the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.g.   5  x  48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 x  48  =  4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8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198108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12740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5321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9440" y="46245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157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alf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Using Place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x  48  =  5  x  (40 +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0  +  5  x  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  200    +    40  =  2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tewart</cp:lastModifiedBy>
  <dcterms:modified xsi:type="dcterms:W3CDTF">2010-03-22T20:34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