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893-6EDA-4CB1-AC6F-A3F1572D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5D5-2030-42D2-82D3-317B6216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4A3-EAAA-4778-8A24-18B7F141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18A-3FC1-4AB0-9ABF-AC85D083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637-5873-434B-BD5D-76DAFFF2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467-B997-479C-923E-103AC420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927E-841D-4910-A08E-71CD2840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17C-8768-4230-8F33-2EE5F92E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6D7-53B3-4AA0-86F8-51737E53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798E-A85F-4BEB-9FB1-822E590A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AC4-E829-4BA9-9B21-C0419FDE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984-4E2A-407F-9205-0C8F6C3A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F3D6-F612-412A-8935-9B8F145A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adbury is making a variety of rectangular chocolate bars. They have different numbers of pieces in them, with different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or example, their 6-piece chocolate bar can have two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6 by 1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nd a 3 by 2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0" y="3352680"/>
            <a:ext cx="2136600" cy="357480"/>
            <a:chOff x="4572000" y="3352680"/>
            <a:chExt cx="2136600" cy="357480"/>
          </a:xfrm>
        </p:grpSpPr>
        <p:sp>
          <p:nvSpPr>
            <p:cNvPr id="44" name=""/>
            <p:cNvSpPr/>
            <p:nvPr/>
          </p:nvSpPr>
          <p:spPr>
            <a:xfrm>
              <a:off x="457200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2804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8408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401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65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256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724280" y="4419720"/>
            <a:ext cx="1069560" cy="711000"/>
            <a:chOff x="4724280" y="4419720"/>
            <a:chExt cx="1069560" cy="711000"/>
          </a:xfrm>
        </p:grpSpPr>
        <p:sp>
          <p:nvSpPr>
            <p:cNvPr id="51" name=""/>
            <p:cNvSpPr/>
            <p:nvPr/>
          </p:nvSpPr>
          <p:spPr>
            <a:xfrm>
              <a:off x="47253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817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3780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2428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803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67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tid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5  x  50) -  (5 x 2)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50     -     10   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 Cit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actors of the number at the bottom of the column in the boxes above the bas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1    2     3    4     5    6    7    8    9    10   11  12   13  14  15  16  17   18  19   20  21  22  23   24 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312480"/>
                <a:gridCol w="309600"/>
                <a:gridCol w="312840"/>
                <a:gridCol w="307800"/>
                <a:gridCol w="311400"/>
                <a:gridCol w="311040"/>
                <a:gridCol w="311040"/>
                <a:gridCol w="311400"/>
                <a:gridCol w="311040"/>
                <a:gridCol w="309600"/>
                <a:gridCol w="311040"/>
                <a:gridCol w="311400"/>
                <a:gridCol w="311040"/>
                <a:gridCol w="311040"/>
                <a:gridCol w="311040"/>
                <a:gridCol w="309600"/>
                <a:gridCol w="311400"/>
                <a:gridCol w="311040"/>
                <a:gridCol w="311040"/>
                <a:gridCol w="311400"/>
                <a:gridCol w="311040"/>
                <a:gridCol w="307800"/>
                <a:gridCol w="312840"/>
                <a:gridCol w="309600"/>
                <a:gridCol w="31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2 times table) or 5 times table BU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s stand in a group with each student numbering off. Every time the number is a multiple of 5, they do not say the number, they say “Buzz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students in a group would go 1, 2, 3, 4, buzz, 6, 7, 8, 9,”buzz”, 11, 12, 13, 14, “buzz”, etc. If a student makes a mistake, they have to sit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y multiples of other numbers eg 6, 7 o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gon whe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752480"/>
          <a:ext cx="403884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4038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52880" y="1905120"/>
          <a:ext cx="3886200" cy="36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38862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 out and draw the different shapes Cadbury can make for chocolate bars with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8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2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4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rite down all the different shapes Cadbury can make for chocolate bar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2743200"/>
          <a:ext cx="6781320" cy="2819520"/>
        </p:xfrm>
        <a:graphic>
          <a:graphicData uri="http://schemas.openxmlformats.org/drawingml/2006/table">
            <a:tbl>
              <a:tblPr/>
              <a:tblGrid>
                <a:gridCol w="3390480"/>
                <a:gridCol w="339084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Making chocolate bars        Task Thre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py and complete this table for the number of pieces in chocolate bars with these lengths and width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ength  1       2      3       4       5       6       7       8       9 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828800"/>
          <a:ext cx="6248520" cy="4657680"/>
        </p:xfrm>
        <a:graphic>
          <a:graphicData uri="http://schemas.openxmlformats.org/drawingml/2006/table">
            <a:tbl>
              <a:tblPr/>
              <a:tblGrid>
                <a:gridCol w="695520"/>
                <a:gridCol w="691920"/>
                <a:gridCol w="695520"/>
                <a:gridCol w="695160"/>
                <a:gridCol w="692280"/>
                <a:gridCol w="695160"/>
                <a:gridCol w="695520"/>
                <a:gridCol w="692280"/>
                <a:gridCol w="69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9436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4479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523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4                    3                      48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                32                    36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                      12              24                16             6               8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              96                        4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            90               45                  1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              2                 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0           120             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                10                 50            60               75                 20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                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If  4 x 3 =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2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0 x 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9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Doubling and ha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and halv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24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number in the question and halve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48  =  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9810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12740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5321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9440" y="46245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157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alf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Plac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x  48  =  5  x  (40 +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0  +  5  x 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 200    +    40  =  2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22T20:34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