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397-E92C-421B-8A52-AC68B5F1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81F-664C-41E0-9ABC-558E9151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666-208F-4D0B-86B0-F2FE3871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FFE-E1C9-42EA-8050-7CF2044C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2EF-D091-434A-9D98-B24AD305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E10-5FF1-421A-9139-F3E28C1D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57A-E8F7-480E-B660-0F29815E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E5E-CA8D-431A-B93E-A01BEDE4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E90-8D66-4E8C-8956-14F179F7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893-9D7C-4D21-8B59-140F7DB7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9A9-3768-4D82-9D3A-8673A055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66E-8975-46B4-8949-39E2FEE2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BDA6-A701-403B-9386-B59C4DC7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adbury is making a variety of rectangular chocolate bars. They have different numbers of pieces in them, with different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For example, their 6-piece chocolate bar can have two sh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 6 by 1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nd a 3 by 2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0" y="3352680"/>
            <a:ext cx="2136600" cy="357480"/>
            <a:chOff x="4572000" y="3352680"/>
            <a:chExt cx="2136600" cy="357480"/>
          </a:xfrm>
        </p:grpSpPr>
        <p:sp>
          <p:nvSpPr>
            <p:cNvPr id="44" name=""/>
            <p:cNvSpPr/>
            <p:nvPr/>
          </p:nvSpPr>
          <p:spPr>
            <a:xfrm>
              <a:off x="457200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2804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8408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401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965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256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724280" y="4419720"/>
            <a:ext cx="1069560" cy="711000"/>
            <a:chOff x="4724280" y="4419720"/>
            <a:chExt cx="1069560" cy="711000"/>
          </a:xfrm>
        </p:grpSpPr>
        <p:sp>
          <p:nvSpPr>
            <p:cNvPr id="51" name=""/>
            <p:cNvSpPr/>
            <p:nvPr/>
          </p:nvSpPr>
          <p:spPr>
            <a:xfrm>
              <a:off x="47253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817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3780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2428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803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367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tidy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5  x  50) -  (5 x 2)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50     -     10   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 Cit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actors of the number at the bottom of the column in the boxes above the bas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1    2     3    4     5    6    7    8    9    10   11  12   13  14  15  16  17   18  19   20  21  22  23   24 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312480"/>
                <a:gridCol w="309600"/>
                <a:gridCol w="312840"/>
                <a:gridCol w="307800"/>
                <a:gridCol w="311400"/>
                <a:gridCol w="311040"/>
                <a:gridCol w="311040"/>
                <a:gridCol w="311400"/>
                <a:gridCol w="311040"/>
                <a:gridCol w="309600"/>
                <a:gridCol w="311040"/>
                <a:gridCol w="311400"/>
                <a:gridCol w="311040"/>
                <a:gridCol w="311040"/>
                <a:gridCol w="311040"/>
                <a:gridCol w="309600"/>
                <a:gridCol w="311400"/>
                <a:gridCol w="311040"/>
                <a:gridCol w="311040"/>
                <a:gridCol w="311400"/>
                <a:gridCol w="311040"/>
                <a:gridCol w="307800"/>
                <a:gridCol w="312840"/>
                <a:gridCol w="309600"/>
                <a:gridCol w="31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2 times table) or 5 times table BU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ents stand in a group with each student numbering off. Every time the number is a multiple of 5, they do not say the number, they say “Buzz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students in a group would go 1, 2, 3, 4, buzz, 6, 7, 8, 9,”buzz”, 11, 12, 13, 14, “buzz”, etc. If a student makes a mistake, they have to sit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y multiples of other numbers eg 6, 7 o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gon whe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752480"/>
          <a:ext cx="403884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4038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952880" y="1905120"/>
          <a:ext cx="3886200" cy="36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05120"/>
                    <a:ext cx="388620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 out and draw the different shapes Cadbury can make for chocolate bars with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8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2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4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Write down all the different shapes Cadbury can make for chocolate bars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2743200"/>
          <a:ext cx="6781320" cy="2819520"/>
        </p:xfrm>
        <a:graphic>
          <a:graphicData uri="http://schemas.openxmlformats.org/drawingml/2006/table">
            <a:tbl>
              <a:tblPr/>
              <a:tblGrid>
                <a:gridCol w="3390480"/>
                <a:gridCol w="3390840"/>
              </a:tblGrid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Making chocolate bars        Task Thre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opy and complete this table for the number of pieces in chocolate bars with these lengths and width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ength  1       2      3       4       5       6       7       8       9 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828800"/>
          <a:ext cx="6248520" cy="4657680"/>
        </p:xfrm>
        <a:graphic>
          <a:graphicData uri="http://schemas.openxmlformats.org/drawingml/2006/table">
            <a:tbl>
              <a:tblPr/>
              <a:tblGrid>
                <a:gridCol w="695520"/>
                <a:gridCol w="691920"/>
                <a:gridCol w="695520"/>
                <a:gridCol w="695160"/>
                <a:gridCol w="692280"/>
                <a:gridCol w="695160"/>
                <a:gridCol w="695520"/>
                <a:gridCol w="692280"/>
                <a:gridCol w="69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94360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44792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1523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4                    3                      48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                32                    36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                      12              24                16             6               8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              96                        4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            90               45                  1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              2                 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0           120             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                10                 50            60               75                 20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                   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If  4 x 3 =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2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0 x 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9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7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Doubling and ha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and halv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24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number in the question and halve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48  =  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198108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12740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5321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9440" y="46245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157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alf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Place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x  48  =  5  x  (40 +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0  +  5  x 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  200    +    40  =  2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22T20:34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