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F15-127B-4BA5-BB5D-2E9B766F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76C-0207-46A9-BEB5-E50189A2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998-5A9C-4CD5-978E-4859ED6B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C18-1684-4FF6-BE6B-5AF999AB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435-5BA9-4E5A-B3AB-E087EC56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B18-BA03-416D-9A81-1F5F58EB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71E-FF18-44B0-A861-D10A92AE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20A-8826-4192-BC62-F6941E7A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E19-C35B-49BE-97FF-2C912424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D88-2D70-4BC4-B120-C8A2CA40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815-A335-43A3-AA18-A5ACB661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772-F7CA-4CED-A794-2950D4A6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53D4-8AF3-4C76-8525-4044F184B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d Min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ou have 1 minute to add the last two numbers each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irs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con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Arial"/>
              </a:rPr>
              <a:t>How Did You Find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ck a pair of numbers from the box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less than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 that when you subtract them you get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difference of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of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more that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219320"/>
          <a:ext cx="6248520" cy="210816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         11             39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           61             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380880"/>
          <a:ext cx="7848720" cy="6096240"/>
        </p:xfrm>
        <a:graphic>
          <a:graphicData uri="http://schemas.openxmlformats.org/drawingml/2006/table">
            <a:tbl>
              <a:tblPr/>
              <a:tblGrid>
                <a:gridCol w="785880"/>
                <a:gridCol w="784080"/>
                <a:gridCol w="784440"/>
                <a:gridCol w="784080"/>
                <a:gridCol w="785880"/>
                <a:gridCol w="785880"/>
                <a:gridCol w="784080"/>
                <a:gridCol w="784080"/>
                <a:gridCol w="784440"/>
                <a:gridCol w="7858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7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79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82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9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8 +         = 81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3635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732840" y="2895480"/>
            <a:ext cx="3719520" cy="1465920"/>
            <a:chOff x="3732840" y="2895480"/>
            <a:chExt cx="3719520" cy="1465920"/>
          </a:xfrm>
        </p:grpSpPr>
        <p:grpSp>
          <p:nvGrpSpPr>
            <p:cNvPr id="102" name=""/>
            <p:cNvGrpSpPr/>
            <p:nvPr/>
          </p:nvGrpSpPr>
          <p:grpSpPr>
            <a:xfrm>
              <a:off x="3732840" y="3641040"/>
              <a:ext cx="519120" cy="704520"/>
              <a:chOff x="3732840" y="3641040"/>
              <a:chExt cx="519120" cy="70452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4019400" y="364104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32840" y="38858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19400" y="3390840"/>
              <a:ext cx="381240" cy="2664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00640" y="320652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5200" y="320004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320004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3435120"/>
              <a:ext cx="304560" cy="2160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38480" y="31240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38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02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53400" y="316836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933240" y="3656880"/>
              <a:ext cx="519120" cy="704520"/>
              <a:chOff x="6933240" y="3656880"/>
              <a:chExt cx="519120" cy="70452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7219800" y="36568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33240" y="3901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371600" y="4251240"/>
            <a:ext cx="6553080" cy="914400"/>
            <a:chOff x="1371600" y="4251240"/>
            <a:chExt cx="6553080" cy="914400"/>
          </a:xfrm>
        </p:grpSpPr>
        <p:sp>
          <p:nvSpPr>
            <p:cNvPr id="119" name=""/>
            <p:cNvSpPr/>
            <p:nvPr/>
          </p:nvSpPr>
          <p:spPr>
            <a:xfrm>
              <a:off x="1371600" y="425124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9 +         = 75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86200" y="440388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886200" y="425124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174040" y="5181480"/>
            <a:ext cx="4525920" cy="1409040"/>
            <a:chOff x="2174040" y="5181480"/>
            <a:chExt cx="4525920" cy="1409040"/>
          </a:xfrm>
        </p:grpSpPr>
        <p:grpSp>
          <p:nvGrpSpPr>
            <p:cNvPr id="124" name=""/>
            <p:cNvGrpSpPr/>
            <p:nvPr/>
          </p:nvGrpSpPr>
          <p:grpSpPr>
            <a:xfrm>
              <a:off x="2174040" y="5886000"/>
              <a:ext cx="519120" cy="704520"/>
              <a:chOff x="2174040" y="5886000"/>
              <a:chExt cx="519120" cy="70452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2460600" y="58860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74040" y="6130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463840" y="5581800"/>
              <a:ext cx="228600" cy="3045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92440" y="5477040"/>
              <a:ext cx="3352680" cy="3902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5880" y="548640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32160" y="53341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5181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27920" y="52452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180840" y="5882760"/>
              <a:ext cx="519120" cy="704520"/>
              <a:chOff x="6180840" y="5882760"/>
              <a:chExt cx="519120" cy="70452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6467400" y="58827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80840" y="6127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38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6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141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144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147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150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153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157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160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163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166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169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172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7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9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371600" y="2895480"/>
            <a:ext cx="6553080" cy="914400"/>
            <a:chOff x="1371600" y="2895480"/>
            <a:chExt cx="6553080" cy="914400"/>
          </a:xfrm>
        </p:grpSpPr>
        <p:sp>
          <p:nvSpPr>
            <p:cNvPr id="180" name=""/>
            <p:cNvSpPr/>
            <p:nvPr/>
          </p:nvSpPr>
          <p:spPr>
            <a:xfrm>
              <a:off x="1371600" y="28954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7 +         = 5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200" y="30481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3809880"/>
            <a:ext cx="6553080" cy="914400"/>
            <a:chOff x="1371600" y="3809880"/>
            <a:chExt cx="6553080" cy="914400"/>
          </a:xfrm>
        </p:grpSpPr>
        <p:sp>
          <p:nvSpPr>
            <p:cNvPr id="183" name=""/>
            <p:cNvSpPr/>
            <p:nvPr/>
          </p:nvSpPr>
          <p:spPr>
            <a:xfrm>
              <a:off x="1371600" y="38098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39625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71600" y="4724280"/>
            <a:ext cx="6553080" cy="914400"/>
            <a:chOff x="1371600" y="4724280"/>
            <a:chExt cx="6553080" cy="914400"/>
          </a:xfrm>
        </p:grpSpPr>
        <p:sp>
          <p:nvSpPr>
            <p:cNvPr id="186" name=""/>
            <p:cNvSpPr/>
            <p:nvPr/>
          </p:nvSpPr>
          <p:spPr>
            <a:xfrm>
              <a:off x="1371600" y="47242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5 +         = 7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48769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371600" y="5638680"/>
            <a:ext cx="6553080" cy="914400"/>
            <a:chOff x="1371600" y="5638680"/>
            <a:chExt cx="6553080" cy="914400"/>
          </a:xfrm>
        </p:grpSpPr>
        <p:sp>
          <p:nvSpPr>
            <p:cNvPr id="189" name=""/>
            <p:cNvSpPr/>
            <p:nvPr/>
          </p:nvSpPr>
          <p:spPr>
            <a:xfrm>
              <a:off x="1371600" y="56386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 +         = 64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6200" y="57913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860640" y="2006640"/>
            <a:ext cx="1143000" cy="4495680"/>
            <a:chOff x="3860640" y="2006640"/>
            <a:chExt cx="1143000" cy="4495680"/>
          </a:xfrm>
        </p:grpSpPr>
        <p:sp>
          <p:nvSpPr>
            <p:cNvPr id="192" name=""/>
            <p:cNvSpPr/>
            <p:nvPr/>
          </p:nvSpPr>
          <p:spPr>
            <a:xfrm>
              <a:off x="3860640" y="20066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60640" y="29210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0640" y="38354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60640" y="47498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56642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202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205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220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223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226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229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232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235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238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241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244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247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250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4 - 3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 - 2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430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373840" y="3505320"/>
            <a:ext cx="4548240" cy="1507320"/>
            <a:chOff x="2373840" y="3505320"/>
            <a:chExt cx="4548240" cy="1507320"/>
          </a:xfrm>
        </p:grpSpPr>
        <p:grpSp>
          <p:nvGrpSpPr>
            <p:cNvPr id="262" name=""/>
            <p:cNvGrpSpPr/>
            <p:nvPr/>
          </p:nvGrpSpPr>
          <p:grpSpPr>
            <a:xfrm>
              <a:off x="2373840" y="4292280"/>
              <a:ext cx="519120" cy="704520"/>
              <a:chOff x="2373840" y="4292280"/>
              <a:chExt cx="519120" cy="70452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2660400" y="42922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73840" y="4537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681280" y="393372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81360" y="3622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43160" y="377028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75160" y="350532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40520" y="3578040"/>
              <a:ext cx="564840" cy="730080"/>
              <a:chOff x="6140520" y="3578040"/>
              <a:chExt cx="564840" cy="730080"/>
            </a:xfrm>
          </p:grpSpPr>
          <p:sp>
            <p:nvSpPr>
              <p:cNvPr id="270" name=""/>
              <p:cNvSpPr/>
              <p:nvPr/>
            </p:nvSpPr>
            <p:spPr>
              <a:xfrm>
                <a:off x="6140520" y="385092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26560" y="357804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067200" y="4308480"/>
              <a:ext cx="339120" cy="621360"/>
              <a:chOff x="3067200" y="4308480"/>
              <a:chExt cx="339120" cy="621360"/>
            </a:xfrm>
          </p:grpSpPr>
          <p:sp>
            <p:nvSpPr>
              <p:cNvPr id="273" name=""/>
              <p:cNvSpPr/>
              <p:nvPr/>
            </p:nvSpPr>
            <p:spPr>
              <a:xfrm>
                <a:off x="306720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6404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027840" y="4308480"/>
              <a:ext cx="339120" cy="621360"/>
              <a:chOff x="6027840" y="4308480"/>
              <a:chExt cx="339120" cy="621360"/>
            </a:xfrm>
          </p:grpSpPr>
          <p:sp>
            <p:nvSpPr>
              <p:cNvPr id="276" name=""/>
              <p:cNvSpPr/>
              <p:nvPr/>
            </p:nvSpPr>
            <p:spPr>
              <a:xfrm>
                <a:off x="602784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2468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402960" y="4308120"/>
              <a:ext cx="519120" cy="704520"/>
              <a:chOff x="6402960" y="4308120"/>
              <a:chExt cx="519120" cy="70452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6689520" y="430812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02960" y="45529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3 to get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0 to get to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2 - 1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ake Ten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stage 5)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out the answers by finding out pairs of numbers that add up to 10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5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8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2 +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7 + 4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 +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8 + 5 +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 + 3 + 5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16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2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4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+ 1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21 + 1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17 + 2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 + 7 + 17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1 + 8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38 + 5 + 2 + 1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4 + 23 + 7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Using d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py and complete doubles up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 +  1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2  +  2  =   ………   10 +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ow answer these questions (almost dou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  +  8 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.     5 + 6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5 + 16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.    17 + 1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 + 9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8  + 1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  + 7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6 + 17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py and complete th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66680" y="175248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umbers shown are the totals of the line of four numbers in the row or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remaining to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672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nge the numbers 1-9 to make three 3 digit numbers that add up to 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59280" y="2781360"/>
          <a:ext cx="3097080" cy="2679480"/>
        </p:xfrm>
        <a:graphic>
          <a:graphicData uri="http://schemas.openxmlformats.org/drawingml/2006/table">
            <a:tbl>
              <a:tblPr/>
              <a:tblGrid>
                <a:gridCol w="1032480"/>
                <a:gridCol w="1032120"/>
                <a:gridCol w="1032480"/>
              </a:tblGrid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68400" y="26485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752480"/>
          <a:ext cx="7315200" cy="426744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9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   82             65              8          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          21              88             51         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         92             35             18           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         49             12             79           6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50          700           810         501          95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50          650            125          222           305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0          499            190            300            550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695          778            875          350            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 Sticky Problem</a:t>
            </a:r>
            <a:br>
              <a:rPr sz="4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achel is helping to raise funds for her school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has made 40 pieces of fudge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can’t decide how many pieces to put into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     She puts 10 pieces in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he tries putting six pieces in each bag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ll there be any pieces of fudge left o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she put eight pieces of fudge in each bag, how many bags of fudge would Rachel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4.    If she decided to sell the fudge for 10 cents a piece, how much money would she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  T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 fudge ingredients cost $1.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will Rachel make at 10 cents a pie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’s brother eats three pieces of fudge before Rachel has time to pack it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does Rachel mak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11T01:19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