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EED4-D2D8-4DD9-885D-402A1B41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80E6-DF69-453E-AAFC-9D091A80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D95D-2F8B-4A1F-961C-47ED8AFF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11D1-719F-445D-B7BE-0E5BBC8C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1E8B-861F-4496-9531-45431781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075C-05C3-42B1-BFA3-B19C9CB8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07C0-FB44-465F-8699-D8D0F812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D4AE-A85E-4848-A93A-2E2C83F0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76FB-246B-4C57-A2DF-7567C174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9E77-1618-4ADD-981B-396F6048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4E9E-93FC-4347-89E9-9759BB17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ACB4-FFD2-4D11-8B03-90F979D4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B013-DAD9-4220-9435-612EB3015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ad Min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You have 1 minute to add the last two numbers each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irst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econd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Arial"/>
              </a:rPr>
              <a:t>How Did You Find Th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ick a pair of numbers from the box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th a sum less than 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o that when you subtract them you get 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th a difference of 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th a sum of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th a sum more that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219320"/>
          <a:ext cx="6248520" cy="2108160"/>
        </p:xfrm>
        <a:graphic>
          <a:graphicData uri="http://schemas.openxmlformats.org/drawingml/2006/table">
            <a:tbl>
              <a:tblPr/>
              <a:tblGrid>
                <a:gridCol w="624852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         11             39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            61             8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380880"/>
          <a:ext cx="7848720" cy="6096240"/>
        </p:xfrm>
        <a:graphic>
          <a:graphicData uri="http://schemas.openxmlformats.org/drawingml/2006/table">
            <a:tbl>
              <a:tblPr/>
              <a:tblGrid>
                <a:gridCol w="785880"/>
                <a:gridCol w="784080"/>
                <a:gridCol w="784440"/>
                <a:gridCol w="784080"/>
                <a:gridCol w="785880"/>
                <a:gridCol w="785880"/>
                <a:gridCol w="784080"/>
                <a:gridCol w="784080"/>
                <a:gridCol w="784440"/>
                <a:gridCol w="78588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75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6 +         = 83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3732840" y="4022280"/>
            <a:ext cx="519120" cy="1120680"/>
            <a:chOff x="3732840" y="4022280"/>
            <a:chExt cx="519120" cy="1120680"/>
          </a:xfrm>
        </p:grpSpPr>
        <p:sp>
          <p:nvSpPr>
            <p:cNvPr id="79" name=""/>
            <p:cNvSpPr/>
            <p:nvPr/>
          </p:nvSpPr>
          <p:spPr>
            <a:xfrm flipV="1">
              <a:off x="40194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328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936480" y="4022280"/>
            <a:ext cx="519120" cy="1120680"/>
            <a:chOff x="6936480" y="4022280"/>
            <a:chExt cx="519120" cy="1120680"/>
          </a:xfrm>
        </p:grpSpPr>
        <p:sp>
          <p:nvSpPr>
            <p:cNvPr id="82" name=""/>
            <p:cNvSpPr/>
            <p:nvPr/>
          </p:nvSpPr>
          <p:spPr>
            <a:xfrm flipV="1">
              <a:off x="72230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364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019400" y="3772080"/>
            <a:ext cx="381240" cy="2664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00640" y="358776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45200" y="358128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3581280"/>
            <a:ext cx="83844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34320" y="3816360"/>
            <a:ext cx="304560" cy="2160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350532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738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802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53400" y="354960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97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8 +         = 81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280" y="3635280"/>
            <a:ext cx="8839440" cy="555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3732840" y="2895480"/>
            <a:ext cx="3719520" cy="1465920"/>
            <a:chOff x="3732840" y="2895480"/>
            <a:chExt cx="3719520" cy="1465920"/>
          </a:xfrm>
        </p:grpSpPr>
        <p:grpSp>
          <p:nvGrpSpPr>
            <p:cNvPr id="102" name=""/>
            <p:cNvGrpSpPr/>
            <p:nvPr/>
          </p:nvGrpSpPr>
          <p:grpSpPr>
            <a:xfrm>
              <a:off x="3732840" y="3641040"/>
              <a:ext cx="519120" cy="704520"/>
              <a:chOff x="3732840" y="3641040"/>
              <a:chExt cx="519120" cy="704520"/>
            </a:xfrm>
          </p:grpSpPr>
          <p:sp>
            <p:nvSpPr>
              <p:cNvPr id="103" name=""/>
              <p:cNvSpPr/>
              <p:nvPr/>
            </p:nvSpPr>
            <p:spPr>
              <a:xfrm flipV="1">
                <a:off x="4019400" y="364104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32840" y="388584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4019400" y="3390840"/>
              <a:ext cx="381240" cy="2664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00640" y="320652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45200" y="320004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5880" y="3200040"/>
              <a:ext cx="83844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34320" y="3435120"/>
              <a:ext cx="304560" cy="2160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38480" y="31240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0" y="2895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73800" y="2895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80200" y="2895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53400" y="316836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933240" y="3656880"/>
              <a:ext cx="519120" cy="704520"/>
              <a:chOff x="6933240" y="3656880"/>
              <a:chExt cx="519120" cy="704520"/>
            </a:xfrm>
          </p:grpSpPr>
          <p:sp>
            <p:nvSpPr>
              <p:cNvPr id="116" name=""/>
              <p:cNvSpPr/>
              <p:nvPr/>
            </p:nvSpPr>
            <p:spPr>
              <a:xfrm flipV="1">
                <a:off x="7219800" y="365688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933240" y="3901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1371600" y="4251240"/>
            <a:ext cx="6553080" cy="914400"/>
            <a:chOff x="1371600" y="4251240"/>
            <a:chExt cx="6553080" cy="914400"/>
          </a:xfrm>
        </p:grpSpPr>
        <p:sp>
          <p:nvSpPr>
            <p:cNvPr id="119" name=""/>
            <p:cNvSpPr/>
            <p:nvPr/>
          </p:nvSpPr>
          <p:spPr>
            <a:xfrm>
              <a:off x="1371600" y="4251240"/>
              <a:ext cx="6553080" cy="91440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9 +         = 75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86200" y="440388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886200" y="425124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8839440" cy="55584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2174040" y="5181480"/>
            <a:ext cx="4525920" cy="1409040"/>
            <a:chOff x="2174040" y="5181480"/>
            <a:chExt cx="4525920" cy="1409040"/>
          </a:xfrm>
        </p:grpSpPr>
        <p:grpSp>
          <p:nvGrpSpPr>
            <p:cNvPr id="124" name=""/>
            <p:cNvGrpSpPr/>
            <p:nvPr/>
          </p:nvGrpSpPr>
          <p:grpSpPr>
            <a:xfrm>
              <a:off x="2174040" y="5886000"/>
              <a:ext cx="519120" cy="704520"/>
              <a:chOff x="2174040" y="5886000"/>
              <a:chExt cx="519120" cy="704520"/>
            </a:xfrm>
          </p:grpSpPr>
          <p:sp>
            <p:nvSpPr>
              <p:cNvPr id="125" name=""/>
              <p:cNvSpPr/>
              <p:nvPr/>
            </p:nvSpPr>
            <p:spPr>
              <a:xfrm flipV="1">
                <a:off x="2460600" y="588600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174040" y="61308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2463840" y="5581800"/>
              <a:ext cx="228600" cy="30456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92440" y="5477040"/>
              <a:ext cx="3352680" cy="39024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95880" y="5486400"/>
              <a:ext cx="38124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32160" y="533412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43400" y="5181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27920" y="524520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6180840" y="5882760"/>
              <a:ext cx="519120" cy="704520"/>
              <a:chOff x="6180840" y="5882760"/>
              <a:chExt cx="519120" cy="704520"/>
            </a:xfrm>
          </p:grpSpPr>
          <p:sp>
            <p:nvSpPr>
              <p:cNvPr id="134" name=""/>
              <p:cNvSpPr/>
              <p:nvPr/>
            </p:nvSpPr>
            <p:spPr>
              <a:xfrm flipV="1">
                <a:off x="6467400" y="588276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180840" y="61275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couraging Imag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138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39 +         = 63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93080" y="4022280"/>
            <a:ext cx="519120" cy="1120680"/>
            <a:chOff x="2593080" y="4022280"/>
            <a:chExt cx="519120" cy="1120680"/>
          </a:xfrm>
        </p:grpSpPr>
        <p:sp>
          <p:nvSpPr>
            <p:cNvPr id="141" name=""/>
            <p:cNvSpPr/>
            <p:nvPr/>
          </p:nvSpPr>
          <p:spPr>
            <a:xfrm flipV="1">
              <a:off x="28796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930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314040" y="4022280"/>
            <a:ext cx="519120" cy="1120680"/>
            <a:chOff x="6314040" y="4022280"/>
            <a:chExt cx="519120" cy="1120680"/>
          </a:xfrm>
        </p:grpSpPr>
        <p:sp>
          <p:nvSpPr>
            <p:cNvPr id="144" name=""/>
            <p:cNvSpPr/>
            <p:nvPr/>
          </p:nvSpPr>
          <p:spPr>
            <a:xfrm flipV="1">
              <a:off x="66006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140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870280" y="3352680"/>
            <a:ext cx="272880" cy="685800"/>
            <a:chOff x="2870280" y="3352680"/>
            <a:chExt cx="272880" cy="685800"/>
          </a:xfrm>
        </p:grpSpPr>
        <p:sp>
          <p:nvSpPr>
            <p:cNvPr id="147" name=""/>
            <p:cNvSpPr/>
            <p:nvPr/>
          </p:nvSpPr>
          <p:spPr>
            <a:xfrm>
              <a:off x="2914560" y="3657600"/>
              <a:ext cx="22860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70280" y="33526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149640" y="3232080"/>
            <a:ext cx="1498680" cy="806400"/>
            <a:chOff x="3149640" y="3232080"/>
            <a:chExt cx="1498680" cy="806400"/>
          </a:xfrm>
        </p:grpSpPr>
        <p:sp>
          <p:nvSpPr>
            <p:cNvPr id="150" name=""/>
            <p:cNvSpPr/>
            <p:nvPr/>
          </p:nvSpPr>
          <p:spPr>
            <a:xfrm>
              <a:off x="3149640" y="3505320"/>
              <a:ext cx="149868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95760" y="32320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140520" y="3308400"/>
            <a:ext cx="457200" cy="730080"/>
            <a:chOff x="6140520" y="3308400"/>
            <a:chExt cx="457200" cy="730080"/>
          </a:xfrm>
        </p:grpSpPr>
        <p:sp>
          <p:nvSpPr>
            <p:cNvPr id="153" name=""/>
            <p:cNvSpPr/>
            <p:nvPr/>
          </p:nvSpPr>
          <p:spPr>
            <a:xfrm>
              <a:off x="6140520" y="3581280"/>
              <a:ext cx="457200" cy="4572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10360" y="330840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587600" y="4038480"/>
            <a:ext cx="339120" cy="621720"/>
            <a:chOff x="1587600" y="4038480"/>
            <a:chExt cx="339120" cy="621720"/>
          </a:xfrm>
        </p:grpSpPr>
        <p:sp>
          <p:nvSpPr>
            <p:cNvPr id="157" name=""/>
            <p:cNvSpPr/>
            <p:nvPr/>
          </p:nvSpPr>
          <p:spPr>
            <a:xfrm>
              <a:off x="1587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826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067200" y="4038480"/>
            <a:ext cx="339120" cy="621720"/>
            <a:chOff x="3067200" y="4038480"/>
            <a:chExt cx="339120" cy="621720"/>
          </a:xfrm>
        </p:grpSpPr>
        <p:sp>
          <p:nvSpPr>
            <p:cNvPr id="160" name=""/>
            <p:cNvSpPr/>
            <p:nvPr/>
          </p:nvSpPr>
          <p:spPr>
            <a:xfrm>
              <a:off x="30672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640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548600" y="4038480"/>
            <a:ext cx="339120" cy="621720"/>
            <a:chOff x="4548600" y="4038480"/>
            <a:chExt cx="339120" cy="621720"/>
          </a:xfrm>
        </p:grpSpPr>
        <p:sp>
          <p:nvSpPr>
            <p:cNvPr id="163" name=""/>
            <p:cNvSpPr/>
            <p:nvPr/>
          </p:nvSpPr>
          <p:spPr>
            <a:xfrm>
              <a:off x="4548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43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027840" y="4038480"/>
            <a:ext cx="339120" cy="621720"/>
            <a:chOff x="6027840" y="4038480"/>
            <a:chExt cx="339120" cy="621720"/>
          </a:xfrm>
        </p:grpSpPr>
        <p:sp>
          <p:nvSpPr>
            <p:cNvPr id="166" name=""/>
            <p:cNvSpPr/>
            <p:nvPr/>
          </p:nvSpPr>
          <p:spPr>
            <a:xfrm>
              <a:off x="60278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246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509240" y="4038480"/>
            <a:ext cx="339120" cy="621720"/>
            <a:chOff x="7509240" y="4038480"/>
            <a:chExt cx="339120" cy="621720"/>
          </a:xfrm>
        </p:grpSpPr>
        <p:sp>
          <p:nvSpPr>
            <p:cNvPr id="169" name=""/>
            <p:cNvSpPr/>
            <p:nvPr/>
          </p:nvSpPr>
          <p:spPr>
            <a:xfrm>
              <a:off x="75092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04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3225960"/>
            <a:ext cx="1498320" cy="812520"/>
            <a:chOff x="4648320" y="3225960"/>
            <a:chExt cx="1498320" cy="812520"/>
          </a:xfrm>
        </p:grpSpPr>
        <p:sp>
          <p:nvSpPr>
            <p:cNvPr id="172" name=""/>
            <p:cNvSpPr/>
            <p:nvPr/>
          </p:nvSpPr>
          <p:spPr>
            <a:xfrm>
              <a:off x="5194440" y="32259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48320" y="3505320"/>
              <a:ext cx="149832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447920" y="4038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Number Propert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177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39 +         = 93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371600" y="2895480"/>
            <a:ext cx="6553080" cy="914400"/>
            <a:chOff x="1371600" y="2895480"/>
            <a:chExt cx="6553080" cy="914400"/>
          </a:xfrm>
        </p:grpSpPr>
        <p:sp>
          <p:nvSpPr>
            <p:cNvPr id="180" name=""/>
            <p:cNvSpPr/>
            <p:nvPr/>
          </p:nvSpPr>
          <p:spPr>
            <a:xfrm>
              <a:off x="1371600" y="2895480"/>
              <a:ext cx="6553080" cy="91440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7 +         = 52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86200" y="30481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371600" y="3809880"/>
            <a:ext cx="6553080" cy="914400"/>
            <a:chOff x="1371600" y="3809880"/>
            <a:chExt cx="6553080" cy="914400"/>
          </a:xfrm>
        </p:grpSpPr>
        <p:sp>
          <p:nvSpPr>
            <p:cNvPr id="183" name=""/>
            <p:cNvSpPr/>
            <p:nvPr/>
          </p:nvSpPr>
          <p:spPr>
            <a:xfrm>
              <a:off x="1371600" y="3809880"/>
              <a:ext cx="6553080" cy="91440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6 +         = 82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6200" y="39625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371600" y="4724280"/>
            <a:ext cx="6553080" cy="914400"/>
            <a:chOff x="1371600" y="4724280"/>
            <a:chExt cx="6553080" cy="914400"/>
          </a:xfrm>
        </p:grpSpPr>
        <p:sp>
          <p:nvSpPr>
            <p:cNvPr id="186" name=""/>
            <p:cNvSpPr/>
            <p:nvPr/>
          </p:nvSpPr>
          <p:spPr>
            <a:xfrm>
              <a:off x="1371600" y="4724280"/>
              <a:ext cx="6553080" cy="91440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55 +         = 72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86200" y="48769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371600" y="5638680"/>
            <a:ext cx="6553080" cy="914400"/>
            <a:chOff x="1371600" y="5638680"/>
            <a:chExt cx="6553080" cy="914400"/>
          </a:xfrm>
        </p:grpSpPr>
        <p:sp>
          <p:nvSpPr>
            <p:cNvPr id="189" name=""/>
            <p:cNvSpPr/>
            <p:nvPr/>
          </p:nvSpPr>
          <p:spPr>
            <a:xfrm>
              <a:off x="1371600" y="5638680"/>
              <a:ext cx="6553080" cy="91440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7 +         = 64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86200" y="57913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860640" y="2006640"/>
            <a:ext cx="1143000" cy="4495680"/>
            <a:chOff x="3860640" y="2006640"/>
            <a:chExt cx="1143000" cy="4495680"/>
          </a:xfrm>
        </p:grpSpPr>
        <p:sp>
          <p:nvSpPr>
            <p:cNvPr id="192" name=""/>
            <p:cNvSpPr/>
            <p:nvPr/>
          </p:nvSpPr>
          <p:spPr>
            <a:xfrm>
              <a:off x="3860640" y="20066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5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60640" y="29210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60640" y="38354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3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60640" y="47498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60640" y="56642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aterials- subtr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1 - 4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3732840" y="4022280"/>
            <a:ext cx="519120" cy="1120680"/>
            <a:chOff x="3732840" y="4022280"/>
            <a:chExt cx="519120" cy="1120680"/>
          </a:xfrm>
        </p:grpSpPr>
        <p:sp>
          <p:nvSpPr>
            <p:cNvPr id="202" name=""/>
            <p:cNvSpPr/>
            <p:nvPr/>
          </p:nvSpPr>
          <p:spPr>
            <a:xfrm flipV="1">
              <a:off x="40194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328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936480" y="4022280"/>
            <a:ext cx="519120" cy="1120680"/>
            <a:chOff x="6936480" y="4022280"/>
            <a:chExt cx="519120" cy="1120680"/>
          </a:xfrm>
        </p:grpSpPr>
        <p:sp>
          <p:nvSpPr>
            <p:cNvPr id="205" name=""/>
            <p:cNvSpPr/>
            <p:nvPr/>
          </p:nvSpPr>
          <p:spPr>
            <a:xfrm flipV="1">
              <a:off x="72230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364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4019400" y="3772080"/>
            <a:ext cx="381240" cy="2664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00640" y="358776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45200" y="358128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3581280"/>
            <a:ext cx="83844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934320" y="3816360"/>
            <a:ext cx="304560" cy="2160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350532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738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802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354960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5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ing - subtr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593080" y="4022280"/>
            <a:ext cx="519120" cy="1120680"/>
            <a:chOff x="2593080" y="4022280"/>
            <a:chExt cx="519120" cy="1120680"/>
          </a:xfrm>
        </p:grpSpPr>
        <p:sp>
          <p:nvSpPr>
            <p:cNvPr id="220" name=""/>
            <p:cNvSpPr/>
            <p:nvPr/>
          </p:nvSpPr>
          <p:spPr>
            <a:xfrm flipV="1">
              <a:off x="28796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930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314040" y="4022280"/>
            <a:ext cx="519120" cy="1120680"/>
            <a:chOff x="6314040" y="4022280"/>
            <a:chExt cx="519120" cy="1120680"/>
          </a:xfrm>
        </p:grpSpPr>
        <p:sp>
          <p:nvSpPr>
            <p:cNvPr id="223" name=""/>
            <p:cNvSpPr/>
            <p:nvPr/>
          </p:nvSpPr>
          <p:spPr>
            <a:xfrm flipV="1">
              <a:off x="66006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140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870280" y="3352680"/>
            <a:ext cx="272880" cy="685800"/>
            <a:chOff x="2870280" y="3352680"/>
            <a:chExt cx="272880" cy="685800"/>
          </a:xfrm>
        </p:grpSpPr>
        <p:sp>
          <p:nvSpPr>
            <p:cNvPr id="226" name=""/>
            <p:cNvSpPr/>
            <p:nvPr/>
          </p:nvSpPr>
          <p:spPr>
            <a:xfrm>
              <a:off x="2914560" y="3657600"/>
              <a:ext cx="22860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70280" y="33526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149640" y="3232080"/>
            <a:ext cx="1498680" cy="806400"/>
            <a:chOff x="3149640" y="3232080"/>
            <a:chExt cx="1498680" cy="806400"/>
          </a:xfrm>
        </p:grpSpPr>
        <p:sp>
          <p:nvSpPr>
            <p:cNvPr id="229" name=""/>
            <p:cNvSpPr/>
            <p:nvPr/>
          </p:nvSpPr>
          <p:spPr>
            <a:xfrm>
              <a:off x="3149640" y="3505320"/>
              <a:ext cx="149868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95760" y="32320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140520" y="3308400"/>
            <a:ext cx="457200" cy="730080"/>
            <a:chOff x="6140520" y="3308400"/>
            <a:chExt cx="457200" cy="730080"/>
          </a:xfrm>
        </p:grpSpPr>
        <p:sp>
          <p:nvSpPr>
            <p:cNvPr id="232" name=""/>
            <p:cNvSpPr/>
            <p:nvPr/>
          </p:nvSpPr>
          <p:spPr>
            <a:xfrm>
              <a:off x="6140520" y="3581280"/>
              <a:ext cx="457200" cy="4572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10360" y="330840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587600" y="4038480"/>
            <a:ext cx="339120" cy="621720"/>
            <a:chOff x="1587600" y="4038480"/>
            <a:chExt cx="339120" cy="621720"/>
          </a:xfrm>
        </p:grpSpPr>
        <p:sp>
          <p:nvSpPr>
            <p:cNvPr id="235" name=""/>
            <p:cNvSpPr/>
            <p:nvPr/>
          </p:nvSpPr>
          <p:spPr>
            <a:xfrm>
              <a:off x="1587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826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067200" y="4038480"/>
            <a:ext cx="339120" cy="621720"/>
            <a:chOff x="3067200" y="4038480"/>
            <a:chExt cx="339120" cy="621720"/>
          </a:xfrm>
        </p:grpSpPr>
        <p:sp>
          <p:nvSpPr>
            <p:cNvPr id="238" name=""/>
            <p:cNvSpPr/>
            <p:nvPr/>
          </p:nvSpPr>
          <p:spPr>
            <a:xfrm>
              <a:off x="30672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640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548600" y="4038480"/>
            <a:ext cx="339120" cy="621720"/>
            <a:chOff x="4548600" y="4038480"/>
            <a:chExt cx="339120" cy="621720"/>
          </a:xfrm>
        </p:grpSpPr>
        <p:sp>
          <p:nvSpPr>
            <p:cNvPr id="241" name=""/>
            <p:cNvSpPr/>
            <p:nvPr/>
          </p:nvSpPr>
          <p:spPr>
            <a:xfrm>
              <a:off x="4548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43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027840" y="4038480"/>
            <a:ext cx="339120" cy="621720"/>
            <a:chOff x="6027840" y="4038480"/>
            <a:chExt cx="339120" cy="621720"/>
          </a:xfrm>
        </p:grpSpPr>
        <p:sp>
          <p:nvSpPr>
            <p:cNvPr id="244" name=""/>
            <p:cNvSpPr/>
            <p:nvPr/>
          </p:nvSpPr>
          <p:spPr>
            <a:xfrm>
              <a:off x="60278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246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7509240" y="4038480"/>
            <a:ext cx="339120" cy="621720"/>
            <a:chOff x="7509240" y="4038480"/>
            <a:chExt cx="339120" cy="621720"/>
          </a:xfrm>
        </p:grpSpPr>
        <p:sp>
          <p:nvSpPr>
            <p:cNvPr id="247" name=""/>
            <p:cNvSpPr/>
            <p:nvPr/>
          </p:nvSpPr>
          <p:spPr>
            <a:xfrm>
              <a:off x="75092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04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648320" y="3225960"/>
            <a:ext cx="1498320" cy="812520"/>
            <a:chOff x="4648320" y="3225960"/>
            <a:chExt cx="1498320" cy="812520"/>
          </a:xfrm>
        </p:grpSpPr>
        <p:sp>
          <p:nvSpPr>
            <p:cNvPr id="250" name=""/>
            <p:cNvSpPr/>
            <p:nvPr/>
          </p:nvSpPr>
          <p:spPr>
            <a:xfrm>
              <a:off x="5194440" y="32259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48320" y="3505320"/>
              <a:ext cx="149832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447920" y="4038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64 - 3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ing - subtr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3 - 2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4308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373840" y="3505320"/>
            <a:ext cx="4548240" cy="1507320"/>
            <a:chOff x="2373840" y="3505320"/>
            <a:chExt cx="4548240" cy="1507320"/>
          </a:xfrm>
        </p:grpSpPr>
        <p:grpSp>
          <p:nvGrpSpPr>
            <p:cNvPr id="262" name=""/>
            <p:cNvGrpSpPr/>
            <p:nvPr/>
          </p:nvGrpSpPr>
          <p:grpSpPr>
            <a:xfrm>
              <a:off x="2373840" y="4292280"/>
              <a:ext cx="519120" cy="704520"/>
              <a:chOff x="2373840" y="4292280"/>
              <a:chExt cx="519120" cy="704520"/>
            </a:xfrm>
          </p:grpSpPr>
          <p:sp>
            <p:nvSpPr>
              <p:cNvPr id="263" name=""/>
              <p:cNvSpPr/>
              <p:nvPr/>
            </p:nvSpPr>
            <p:spPr>
              <a:xfrm flipV="1">
                <a:off x="2660400" y="429228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373840" y="45370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2681280" y="3933720"/>
              <a:ext cx="461880" cy="3906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81360" y="362268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43160" y="3770280"/>
              <a:ext cx="3022560" cy="55404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75160" y="3505320"/>
              <a:ext cx="92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6140520" y="3578040"/>
              <a:ext cx="564840" cy="730080"/>
              <a:chOff x="6140520" y="3578040"/>
              <a:chExt cx="564840" cy="730080"/>
            </a:xfrm>
          </p:grpSpPr>
          <p:sp>
            <p:nvSpPr>
              <p:cNvPr id="270" name=""/>
              <p:cNvSpPr/>
              <p:nvPr/>
            </p:nvSpPr>
            <p:spPr>
              <a:xfrm>
                <a:off x="6140520" y="3850920"/>
                <a:ext cx="564840" cy="457200"/>
              </a:xfrm>
              <a:custGeom>
                <a:avLst/>
                <a:gdLst/>
                <a:ahLst/>
                <a:rect l="l" t="t" r="r" b="b"/>
                <a:pathLst>
                  <a:path w="240" h="168">
                    <a:moveTo>
                      <a:pt x="0" y="168"/>
                    </a:moveTo>
                    <a:cubicBezTo>
                      <a:pt x="8" y="108"/>
                      <a:pt x="16" y="48"/>
                      <a:pt x="48" y="24"/>
                    </a:cubicBezTo>
                    <a:cubicBezTo>
                      <a:pt x="80" y="0"/>
                      <a:pt x="160" y="0"/>
                      <a:pt x="192" y="24"/>
                    </a:cubicBezTo>
                    <a:cubicBezTo>
                      <a:pt x="224" y="48"/>
                      <a:pt x="232" y="108"/>
                      <a:pt x="240" y="16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226560" y="3578040"/>
                <a:ext cx="302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067200" y="4308480"/>
              <a:ext cx="339120" cy="621360"/>
              <a:chOff x="3067200" y="4308480"/>
              <a:chExt cx="339120" cy="621360"/>
            </a:xfrm>
          </p:grpSpPr>
          <p:sp>
            <p:nvSpPr>
              <p:cNvPr id="273" name=""/>
              <p:cNvSpPr/>
              <p:nvPr/>
            </p:nvSpPr>
            <p:spPr>
              <a:xfrm>
                <a:off x="3067200" y="456372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164040" y="430848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6027840" y="4308480"/>
              <a:ext cx="339120" cy="621360"/>
              <a:chOff x="6027840" y="4308480"/>
              <a:chExt cx="339120" cy="621360"/>
            </a:xfrm>
          </p:grpSpPr>
          <p:sp>
            <p:nvSpPr>
              <p:cNvPr id="276" name=""/>
              <p:cNvSpPr/>
              <p:nvPr/>
            </p:nvSpPr>
            <p:spPr>
              <a:xfrm>
                <a:off x="6027840" y="456372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124680" y="430848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6402960" y="4308120"/>
              <a:ext cx="519120" cy="704520"/>
              <a:chOff x="6402960" y="4308120"/>
              <a:chExt cx="519120" cy="704520"/>
            </a:xfrm>
          </p:grpSpPr>
          <p:sp>
            <p:nvSpPr>
              <p:cNvPr id="279" name=""/>
              <p:cNvSpPr/>
              <p:nvPr/>
            </p:nvSpPr>
            <p:spPr>
              <a:xfrm flipV="1">
                <a:off x="6689520" y="430812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402960" y="455292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Number Propert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69800" y="3254400"/>
            <a:ext cx="468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17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3 to get to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60 to get to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2 to get to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2 - 1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6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Make Ten 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stage 5)</a:t>
            </a:r>
            <a:br>
              <a:rPr sz="4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 out the answers by finding out pairs of numbers that add up to 10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7 + 5 +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4 + 8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8 + 2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6 + 3 + 7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9 + 7 + 1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5 + 3 + 2 + 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6 + 7 + 4 +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 + 7 + 1 + 8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3 + 8 + 5 + 2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7 + 4 + 3 + 5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4 + 16 +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2 + 8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4 + 2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6 + 3 + 7 + 14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9 + 7 + 21 + 1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5 + 3 + 17 + 2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3 + 7 + 17 +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 + 7 + 11 + 8 +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3 + 38 + 5 + 2 + 1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7 + 44 + 23 + 7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Using dou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py and complete doubles up to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  +  1 =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2  +  2  =   ………   10 + 1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Now answer these questions (almost dou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7  +  8  =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.     5 + 6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5 + 16 =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.    17 + 18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8 + 9 =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8  + 19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6  + 7 =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6 + 17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opy and complete the 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66680" y="1752480"/>
          <a:ext cx="6096240" cy="40636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umbers shown are the totals of the line of four numbers in the row or colum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the remaining to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6248520" cy="4572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867280" y="2666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5334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9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68000" y="155700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range the numbers 1-9 to make three 3 digit numbers that add up to 99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59280" y="2781360"/>
          <a:ext cx="3097080" cy="2679480"/>
        </p:xfrm>
        <a:graphic>
          <a:graphicData uri="http://schemas.openxmlformats.org/drawingml/2006/table">
            <a:tbl>
              <a:tblPr/>
              <a:tblGrid>
                <a:gridCol w="1032480"/>
                <a:gridCol w="1032120"/>
                <a:gridCol w="1032480"/>
              </a:tblGrid>
              <a:tr h="89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00"/>
                </a:solidFill>
                <a:latin typeface="Arial"/>
              </a:rPr>
              <a:t>Adding Compatibles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ind pairs of numbers that total 1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68400" y="26485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1752480"/>
          <a:ext cx="7315200" cy="426744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49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     82             65              8          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          21              88             51         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          92             35             18           7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         49             12             79           6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00"/>
                </a:solidFill>
                <a:latin typeface="Arial"/>
              </a:rPr>
              <a:t>Adding Compatibles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ind pairs of numbers that total 1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450          700           810         501          950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50          650            125          222           305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50          499            190            300            550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695          778            875          350            7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A Sticky Problem</a:t>
            </a:r>
            <a:br>
              <a:rPr sz="4000"/>
            </a:b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achel is helping to raise funds for her school.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he has made 40 pieces of fudge.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he can’t decide how many pieces to put into each b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1.     She puts 10 pieces in each b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any bags of fudge does she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2.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he tries putting six pieces in each bag.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any bags of fudge does she have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ill there be any pieces of fudge left ov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3.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f she put eight pieces of fudge in each bag, how many bags of fudge would Rachel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4.    If she decided to sell the fudge for 10 cents a piece, how much money would she ma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.   T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e fudge ingredients cost $1.5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uch profit will Rachel make at 10 cents a pie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6.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achel’s brother eats three pieces of fudge before Rachel has time to pack it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uch profit does Rachel make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tewart</cp:lastModifiedBy>
  <dcterms:modified xsi:type="dcterms:W3CDTF">2010-03-11T01:19:4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