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512-9E3C-4F41-8171-B85F4E37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F3C-4B43-4ECC-B727-8C91E978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571-EC67-480E-BBA0-64A31FB8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F17-A88C-4087-9143-1C74FC51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AF7-E689-420D-97D8-FDA91F65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EDE-E87F-4697-91C2-80F736D2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CED9-CF68-4257-BFE6-524159CD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499-A77A-4E81-A20C-B0B4BA33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6B0-0379-49BF-9B74-8C7EED5E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1D8-50E8-4CC5-A0B4-8857168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8AB-400D-48AA-A9A0-127D1620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9A9-70CD-475A-91C1-1CD69ADB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EAE5-562D-4816-929B-84A6C310C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adbury is making a variety of rectangular chocolate bars. They have different numbers of pieces in them, with different sha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For example, their 6-piece chocolate bar can have two sha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 6 by 1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nd a 3 by 2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572000" y="3352680"/>
            <a:ext cx="2136600" cy="357480"/>
            <a:chOff x="4572000" y="3352680"/>
            <a:chExt cx="2136600" cy="357480"/>
          </a:xfrm>
        </p:grpSpPr>
        <p:sp>
          <p:nvSpPr>
            <p:cNvPr id="44" name=""/>
            <p:cNvSpPr/>
            <p:nvPr/>
          </p:nvSpPr>
          <p:spPr>
            <a:xfrm>
              <a:off x="457200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2804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8408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401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99652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2560" y="3352680"/>
              <a:ext cx="356040" cy="35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724280" y="4419720"/>
            <a:ext cx="1069560" cy="711000"/>
            <a:chOff x="4724280" y="4419720"/>
            <a:chExt cx="1069560" cy="711000"/>
          </a:xfrm>
        </p:grpSpPr>
        <p:sp>
          <p:nvSpPr>
            <p:cNvPr id="51" name=""/>
            <p:cNvSpPr/>
            <p:nvPr/>
          </p:nvSpPr>
          <p:spPr>
            <a:xfrm>
              <a:off x="47253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8176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37800" y="441972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803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36720" y="4775040"/>
              <a:ext cx="35604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tidy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5  x  50) -  (5 x 2)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50     -     10   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 City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actors of the number at the bottom of the column in the boxes above the bas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1    2     3    4     5    6    7    8    9    10   11  12   13  14  15  16  17   18  19   20  21  22  23   24 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600200"/>
          <a:ext cx="7772400" cy="4657680"/>
        </p:xfrm>
        <a:graphic>
          <a:graphicData uri="http://schemas.openxmlformats.org/drawingml/2006/table">
            <a:tbl>
              <a:tblPr/>
              <a:tblGrid>
                <a:gridCol w="312480"/>
                <a:gridCol w="309600"/>
                <a:gridCol w="312840"/>
                <a:gridCol w="307800"/>
                <a:gridCol w="311400"/>
                <a:gridCol w="311040"/>
                <a:gridCol w="311040"/>
                <a:gridCol w="311400"/>
                <a:gridCol w="311040"/>
                <a:gridCol w="309600"/>
                <a:gridCol w="311040"/>
                <a:gridCol w="311400"/>
                <a:gridCol w="311040"/>
                <a:gridCol w="311040"/>
                <a:gridCol w="311040"/>
                <a:gridCol w="309600"/>
                <a:gridCol w="311400"/>
                <a:gridCol w="311040"/>
                <a:gridCol w="311040"/>
                <a:gridCol w="311400"/>
                <a:gridCol w="311040"/>
                <a:gridCol w="307800"/>
                <a:gridCol w="312840"/>
                <a:gridCol w="309600"/>
                <a:gridCol w="31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2 times table) or 5 times table BU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ents stand in a group with each student numbering off. Every time the number is a multiple of 5, they do not say the number, they say “Buzz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 students in a group would go 1, 2, 3, 4, buzz, 6, 7, 8, 9,”buzz”, 11, 12, 13, 14, “buzz”, etc. If a student makes a mistake, they have to sit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ry multiples of other numbers eg 6, 7 or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agon whe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280" y="1752480"/>
          <a:ext cx="403884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403884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952880" y="1905120"/>
          <a:ext cx="3886200" cy="36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38862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 out and draw the different shapes Cadbury can make for chocolate bars with</a:t>
            </a: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8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12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24 pi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Chocolate B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omic Sans MS"/>
              </a:rPr>
              <a:t>Task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rite down all the different shapes Cadbury can make for chocolate bar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43000" y="2743200"/>
          <a:ext cx="6781320" cy="2819520"/>
        </p:xfrm>
        <a:graphic>
          <a:graphicData uri="http://schemas.openxmlformats.org/drawingml/2006/table">
            <a:tbl>
              <a:tblPr/>
              <a:tblGrid>
                <a:gridCol w="3390480"/>
                <a:gridCol w="33908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6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)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 pie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mic Sans MS"/>
              </a:rPr>
              <a:t>Making chocolate bars        Task Three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Copy and complete this table for the number of pieces in chocolate bars with these lengths and width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length  1       2      3       4       5       6       7       8       9 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828800"/>
          <a:ext cx="6248520" cy="4657680"/>
        </p:xfrm>
        <a:graphic>
          <a:graphicData uri="http://schemas.openxmlformats.org/drawingml/2006/table">
            <a:tbl>
              <a:tblPr/>
              <a:tblGrid>
                <a:gridCol w="695520"/>
                <a:gridCol w="691920"/>
                <a:gridCol w="695520"/>
                <a:gridCol w="695160"/>
                <a:gridCol w="692280"/>
                <a:gridCol w="695160"/>
                <a:gridCol w="695520"/>
                <a:gridCol w="692280"/>
                <a:gridCol w="695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2362320"/>
            <a:ext cx="4876920" cy="3581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5943600"/>
            <a:ext cx="4876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14479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96080" y="1523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4                    3                      48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2                32                    36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                       12              24                16             6               8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              96                        4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three numbers below, and show how they are related by multiplication or divis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            90               45                  15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              2                 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0           120             1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                 10                 50            60               75                 20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                   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f  4 x 3 =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is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0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2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 x 3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 x 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9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 x 3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3600" spc="-1" strike="noStrike">
                <a:solidFill>
                  <a:srgbClr val="333399"/>
                </a:solidFill>
                <a:latin typeface="Arial"/>
              </a:rPr>
              <a:t>Doubling and ha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56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and halve the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24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ouble 1 number in the question and halve the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.g.   5  x  48  =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10 x  48  =  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8  = 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98108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127400"/>
            <a:ext cx="7621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5321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9440" y="46245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5157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alf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Multiplying by </a:t>
            </a:r>
            <a:r>
              <a:rPr b="0" lang="en-NZ" sz="4000" spc="-1" strike="noStrike">
                <a:solidFill>
                  <a:srgbClr val="333399"/>
                </a:solidFill>
                <a:latin typeface="Arial"/>
              </a:rPr>
              <a:t>Using Place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x  48  =  5  x  (40 +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  x  40  +  5  x  8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  200    +    40  =  2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stewart</cp:lastModifiedBy>
  <dcterms:modified xsi:type="dcterms:W3CDTF">2010-03-22T20:34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