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2476-65D2-4D9B-87AC-B7D69C202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2410-6B0F-4CEC-B315-D472DE589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AF90-97DD-46F0-B8E9-EE722E51C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0186-0BCD-423F-A591-5CC80E4B7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BC29-5606-4E1C-8DFC-8339156D1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71A6-A34D-4190-852E-E6957228E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14CA-B704-4C34-B7AE-5063638DB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2A8D-E1D6-40F5-A77D-8004859C8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1289-23D9-4A01-BFA3-A64EE0B5A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B785-5A93-4347-9EAE-E8A43076E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89CA-9697-4AF9-8151-CE68AB3A5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F35E-04CA-429F-A937-324AB3C34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7708B-BAAD-496F-BFED-C3A5E12787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king Chocolate B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Cadbury is making a variety of rectangular chocolate bars. They have different numbers of pieces in them, with different sha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For example, their 6-piece chocolate bar can have two shap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A 6 by 1 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and a 3 by 2 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4572000" y="3352680"/>
            <a:ext cx="2136600" cy="357480"/>
            <a:chOff x="4572000" y="3352680"/>
            <a:chExt cx="2136600" cy="357480"/>
          </a:xfrm>
        </p:grpSpPr>
        <p:sp>
          <p:nvSpPr>
            <p:cNvPr id="44" name=""/>
            <p:cNvSpPr/>
            <p:nvPr/>
          </p:nvSpPr>
          <p:spPr>
            <a:xfrm>
              <a:off x="4572000" y="3352680"/>
              <a:ext cx="356040" cy="35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928040" y="3352680"/>
              <a:ext cx="356040" cy="35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284080" y="3352680"/>
              <a:ext cx="356040" cy="35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640120" y="3352680"/>
              <a:ext cx="356040" cy="35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996520" y="3352680"/>
              <a:ext cx="356040" cy="35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352560" y="3352680"/>
              <a:ext cx="356040" cy="35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724280" y="4419720"/>
            <a:ext cx="1069560" cy="711000"/>
            <a:chOff x="4724280" y="4419720"/>
            <a:chExt cx="1069560" cy="711000"/>
          </a:xfrm>
        </p:grpSpPr>
        <p:sp>
          <p:nvSpPr>
            <p:cNvPr id="51" name=""/>
            <p:cNvSpPr/>
            <p:nvPr/>
          </p:nvSpPr>
          <p:spPr>
            <a:xfrm>
              <a:off x="4725360" y="4419720"/>
              <a:ext cx="356040" cy="35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081760" y="4419720"/>
              <a:ext cx="356040" cy="35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437800" y="4419720"/>
              <a:ext cx="356040" cy="35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724280" y="4775040"/>
              <a:ext cx="356040" cy="35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80320" y="4775040"/>
              <a:ext cx="356040" cy="35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36720" y="4775040"/>
              <a:ext cx="356040" cy="35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Multiplying by </a:t>
            </a:r>
            <a:r>
              <a:rPr b="0" lang="en-NZ" sz="4000" spc="-1" strike="noStrike">
                <a:solidFill>
                  <a:srgbClr val="333399"/>
                </a:solidFill>
                <a:latin typeface="Arial"/>
              </a:rPr>
              <a:t>Using tidy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5  x  48 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(5  x  50) -  (5 x 2) 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250     -     10     =  2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actor City</a:t>
            </a: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factors of the number at the bottom of the column in the boxes above the base l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1    2     3    4     5    6    7    8    9    10   11  12   13  14  15  16  17   18  19   20  21  22  23   24  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762120" y="1600200"/>
          <a:ext cx="7772400" cy="4657680"/>
        </p:xfrm>
        <a:graphic>
          <a:graphicData uri="http://schemas.openxmlformats.org/drawingml/2006/table">
            <a:tbl>
              <a:tblPr/>
              <a:tblGrid>
                <a:gridCol w="312480"/>
                <a:gridCol w="309600"/>
                <a:gridCol w="312840"/>
                <a:gridCol w="307800"/>
                <a:gridCol w="311400"/>
                <a:gridCol w="311040"/>
                <a:gridCol w="311040"/>
                <a:gridCol w="311400"/>
                <a:gridCol w="311040"/>
                <a:gridCol w="309600"/>
                <a:gridCol w="311040"/>
                <a:gridCol w="311400"/>
                <a:gridCol w="311040"/>
                <a:gridCol w="311040"/>
                <a:gridCol w="311040"/>
                <a:gridCol w="309600"/>
                <a:gridCol w="311400"/>
                <a:gridCol w="311040"/>
                <a:gridCol w="311040"/>
                <a:gridCol w="311400"/>
                <a:gridCol w="311040"/>
                <a:gridCol w="307800"/>
                <a:gridCol w="312840"/>
                <a:gridCol w="309600"/>
                <a:gridCol w="312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BUZ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(2 times table) or 5 times table BUZ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udents stand in a group with each student numbering off. Every time the number is a multiple of 5, they do not say the number, they say “Buzz”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refore students in a group would go 1, 2, 3, 4, buzz, 6, 7, 8, 9,”buzz”, 11, 12, 13, 14, “buzz”, etc. If a student makes a mistake, they have to sit dow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Try multiples of other numbers eg 6, 7 or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Wagon whe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280" y="1752480"/>
          <a:ext cx="4038840" cy="378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752480"/>
                    <a:ext cx="4038840" cy="37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4952880" y="1905120"/>
          <a:ext cx="3886200" cy="364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2880" y="1905120"/>
                    <a:ext cx="3886200" cy="36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king Chocolate B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omic Sans MS"/>
              </a:rPr>
              <a:t>Task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Work out and draw the different shapes Cadbury can make for chocolate bars with</a:t>
            </a:r>
            <a:r>
              <a:rPr b="0" lang="en-A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a)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8 pi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b)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12 pi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c)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24 pi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king Chocolate B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omic Sans MS"/>
              </a:rPr>
              <a:t>Task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Write down all the different shapes Cadbury can make for chocolate bars wit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143000" y="2743200"/>
          <a:ext cx="6781320" cy="2819520"/>
        </p:xfrm>
        <a:graphic>
          <a:graphicData uri="http://schemas.openxmlformats.org/drawingml/2006/table">
            <a:tbl>
              <a:tblPr/>
              <a:tblGrid>
                <a:gridCol w="3390480"/>
                <a:gridCol w="3390840"/>
              </a:tblGrid>
              <a:tr h="93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)</a:t>
                      </a: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 pie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)</a:t>
                      </a: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 pie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)</a:t>
                      </a: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 pie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)</a:t>
                      </a: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6 pie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)</a:t>
                      </a: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0 pie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)</a:t>
                      </a: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8 pie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mic Sans MS"/>
              </a:rPr>
              <a:t>Making chocolate bars        Task Three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Copy and complete this table for the number of pieces in chocolate bars with these lengths and widths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length  1       2      3       4       5       6       7       8       9  wid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523880" y="1828800"/>
          <a:ext cx="6248520" cy="4657680"/>
        </p:xfrm>
        <a:graphic>
          <a:graphicData uri="http://schemas.openxmlformats.org/drawingml/2006/table">
            <a:tbl>
              <a:tblPr/>
              <a:tblGrid>
                <a:gridCol w="695520"/>
                <a:gridCol w="691920"/>
                <a:gridCol w="695520"/>
                <a:gridCol w="695160"/>
                <a:gridCol w="692280"/>
                <a:gridCol w="695160"/>
                <a:gridCol w="695520"/>
                <a:gridCol w="692280"/>
                <a:gridCol w="695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1523880" y="2362320"/>
            <a:ext cx="4876920" cy="3581280"/>
          </a:xfrm>
          <a:prstGeom prst="rtTriangl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23880" y="2362320"/>
            <a:ext cx="4876920" cy="3581280"/>
          </a:xfrm>
          <a:prstGeom prst="rtTriangl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23880" y="2362320"/>
            <a:ext cx="4876920" cy="35812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23880" y="5943600"/>
            <a:ext cx="48769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1447920"/>
            <a:ext cx="0" cy="304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696080" y="1523880"/>
            <a:ext cx="0" cy="152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oose three numbers below, and show how they are related by multiplication or divis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518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44                    3                      48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72                32                    36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8                       12              24                16             6               8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               96                        4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oose three numbers below, and show how they are related by multiplication or divis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             90               45                  15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               2                 1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80           120             18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0                 10                 50            60               75                 20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                     1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If  4 x 3 =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hat is   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4 x 30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4 x 28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4 x 32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40 x 3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2 x 3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39 x 3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37 x 3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Multiplying by </a:t>
            </a:r>
            <a:r>
              <a:rPr b="0" lang="en-NZ" sz="3600" spc="-1" strike="noStrike">
                <a:solidFill>
                  <a:srgbClr val="333399"/>
                </a:solidFill>
                <a:latin typeface="Arial"/>
              </a:rPr>
              <a:t>Doubling and halv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30456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Double 1 and halve the 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e.g.   5  x  48  =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10 x  24  =  2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double 1 number in the question and halve the ans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e.g.   5  x  48  =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10 x  48  =  4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5  x  48  =  2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95880" y="1981080"/>
            <a:ext cx="7621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267080" y="2514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257800" y="2514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67080" y="2514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72200" y="4127400"/>
            <a:ext cx="7621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553080" y="532116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67080" y="4724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49440" y="462456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dou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629400" y="515772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half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Multiplying by </a:t>
            </a:r>
            <a:r>
              <a:rPr b="0" lang="en-NZ" sz="4000" spc="-1" strike="noStrike">
                <a:solidFill>
                  <a:srgbClr val="333399"/>
                </a:solidFill>
                <a:latin typeface="Arial"/>
              </a:rPr>
              <a:t>Using Place Val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ctr">
              <a:spcBef>
                <a:spcPts val="799"/>
              </a:spcBef>
              <a:buClr>
                <a:srgbClr val="000000"/>
              </a:buClr>
              <a:buFont typeface="Arial"/>
              <a:buAutoNum type="arabicPlain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x  48  =  5  x  (40 + 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5  x  40  +  5  x  8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=  200    +    40  =  24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stewart</cp:lastModifiedBy>
  <dcterms:modified xsi:type="dcterms:W3CDTF">2010-03-22T20:34:48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