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D43-05A4-4219-AA0E-CC6F2810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582-3AE9-42C3-B176-88190966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6F4-EF2D-4E6D-A2A0-1AF56976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732-1958-4CDE-8112-73382125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5A5-0A0F-486B-A8BA-1B114501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160-FCD8-4F36-92FB-2F33E9E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7CE-B7E0-40B2-A1C6-F8797CFD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2B9-B8A8-4ADF-AF16-94414876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491-FD8D-4018-AE00-8612BB93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C5F-5C31-4958-850F-AB8977C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A45-F7AD-4D19-8571-DD38EFB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1C6-D27B-44A7-8D3C-9F933354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E017-9F4F-4EA6-B9AB-9F2F06FBC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d Min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have 1 minute to add the last two numbers eac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ir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con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Arial"/>
              </a:rPr>
              <a:t>How Did You Find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ck a pair of numbers from the box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less than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 that when you subtract them you get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difference of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of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more that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219320"/>
          <a:ext cx="6248520" cy="210816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        11             39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           61             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80880"/>
          <a:ext cx="7848720" cy="6096240"/>
        </p:xfrm>
        <a:graphic>
          <a:graphicData uri="http://schemas.openxmlformats.org/drawingml/2006/table">
            <a:tbl>
              <a:tblPr/>
              <a:tblGrid>
                <a:gridCol w="785880"/>
                <a:gridCol w="784080"/>
                <a:gridCol w="784440"/>
                <a:gridCol w="784080"/>
                <a:gridCol w="785880"/>
                <a:gridCol w="785880"/>
                <a:gridCol w="784080"/>
                <a:gridCol w="784080"/>
                <a:gridCol w="784440"/>
                <a:gridCol w="7858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7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79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82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02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19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24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38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41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44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47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50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153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157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160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163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166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169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172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7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18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18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18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19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202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205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220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223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226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229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32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3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3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4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4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4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5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262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270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273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276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ake Ten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stage 5)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out the answers by finding out pairs of numbers that add up to 10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5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8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2 +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7 + 4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 +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8 + 5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 + 3 + 5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16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2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4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+ 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21 + 1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17 + 2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 + 7 + 17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1 + 8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38 + 5 + 2 + 1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4 + 23 + 7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Using d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 and complete doubles up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 +  1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2  +  2  =   ………   10 +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w answer these questions (almost dou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  +  8 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.     5 + 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5 + 16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.    17 + 1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 + 9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8  + 1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  + 7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6 + 1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py and complete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66680" y="175248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s shown are the totals of the line of four numbers in the row or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remaining to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672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nge the numbers 1-9 to make three 3 digit numbers that add up to 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59280" y="2781360"/>
          <a:ext cx="3097080" cy="2679480"/>
        </p:xfrm>
        <a:graphic>
          <a:graphicData uri="http://schemas.openxmlformats.org/drawingml/2006/table">
            <a:tbl>
              <a:tblPr/>
              <a:tblGrid>
                <a:gridCol w="1032480"/>
                <a:gridCol w="1032120"/>
                <a:gridCol w="1032480"/>
              </a:tblGrid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8400" y="26485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752480"/>
          <a:ext cx="7315200" cy="426744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   82             65              8          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          21              88             51         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         92             35             18           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         49             12             79           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50          700           810         501          95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50          650            125          222           305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0          499            190            300            550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695          778            875          350           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 Sticky Problem</a:t>
            </a:r>
            <a:br>
              <a:rPr sz="4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achel is helping to raise funds for her school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has made 40 pieces of fudge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can’t decide how many pieces to put into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     She puts 10 pieces in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he tries putting six pieces in each bag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ll there be any pieces of fudge left o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she put eight pieces of fudge in each bag, how many bags of fudge would Rache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.    If she decided to sell the fudge for 10 cents a piece, how much money would she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  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 fudge ingredients cost $1.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will Rachel make at 10 cents a pie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’s brother eats three pieces of fudge before Rachel has time to pack it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does Rachel mak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11T01:19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