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17D-ECC7-4708-9C93-1651F517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46B3-5EE3-4F67-8F98-09E93B52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4CE-E4DA-45A7-AAF3-8FCB8939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58C-B2AD-4415-88F0-C3897C4E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794-5918-44DB-B9AC-A3AF2E47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062-A5B9-4E62-8445-168E228B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6DA-627A-4ABA-98F9-4C2CB37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EEF-0423-4B39-A7EB-3986AD26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64A-D3D8-4878-B1C7-C5F11E33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066-408B-42C4-8BEF-08BCE8DD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5C99-94C4-485A-95AA-3E64C34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152D-203A-4C29-A379-6AD120B8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55B-F0A1-4D9D-A3DC-604936750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d Min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have 1 minute to add the last two numbers each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irst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con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0000"/>
                </a:solidFill>
                <a:latin typeface="Arial"/>
              </a:rPr>
              <a:t>How Did You Find Th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ck a pair of numbers from the box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less than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 that when you subtract them you get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difference of 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of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th a sum more that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3880" y="1219320"/>
          <a:ext cx="6248520" cy="210816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21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          11             39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          61          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80880"/>
          <a:ext cx="7848720" cy="6096240"/>
        </p:xfrm>
        <a:graphic>
          <a:graphicData uri="http://schemas.openxmlformats.org/drawingml/2006/table">
            <a:tbl>
              <a:tblPr/>
              <a:tblGrid>
                <a:gridCol w="785880"/>
                <a:gridCol w="784080"/>
                <a:gridCol w="784440"/>
                <a:gridCol w="784080"/>
                <a:gridCol w="785880"/>
                <a:gridCol w="785880"/>
                <a:gridCol w="784080"/>
                <a:gridCol w="784080"/>
                <a:gridCol w="784440"/>
                <a:gridCol w="78588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75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79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82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9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8 +         = 81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80" y="3635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3732840" y="2895480"/>
            <a:ext cx="3719520" cy="1465920"/>
            <a:chOff x="3732840" y="2895480"/>
            <a:chExt cx="3719520" cy="1465920"/>
          </a:xfrm>
        </p:grpSpPr>
        <p:grpSp>
          <p:nvGrpSpPr>
            <p:cNvPr id="102" name=""/>
            <p:cNvGrpSpPr/>
            <p:nvPr/>
          </p:nvGrpSpPr>
          <p:grpSpPr>
            <a:xfrm>
              <a:off x="3732840" y="3641040"/>
              <a:ext cx="519120" cy="704520"/>
              <a:chOff x="3732840" y="3641040"/>
              <a:chExt cx="519120" cy="70452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4019400" y="364104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32840" y="388584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019400" y="3390840"/>
              <a:ext cx="381240" cy="2664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00640" y="320652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45200" y="3200040"/>
              <a:ext cx="83808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5880" y="3200040"/>
              <a:ext cx="838440" cy="44460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34320" y="3435120"/>
              <a:ext cx="304560" cy="2160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31240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38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2895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53400" y="316836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6933240" y="3656880"/>
              <a:ext cx="519120" cy="704520"/>
              <a:chOff x="6933240" y="3656880"/>
              <a:chExt cx="519120" cy="70452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7219800" y="36568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33240" y="39016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371600" y="4251240"/>
            <a:ext cx="6553080" cy="914400"/>
            <a:chOff x="1371600" y="4251240"/>
            <a:chExt cx="6553080" cy="914400"/>
          </a:xfrm>
        </p:grpSpPr>
        <p:sp>
          <p:nvSpPr>
            <p:cNvPr id="119" name=""/>
            <p:cNvSpPr/>
            <p:nvPr/>
          </p:nvSpPr>
          <p:spPr>
            <a:xfrm>
              <a:off x="1371600" y="425124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9 +         = 75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6200" y="440388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86200" y="425124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8839440" cy="5558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2174040" y="5181480"/>
            <a:ext cx="4525920" cy="1409040"/>
            <a:chOff x="2174040" y="5181480"/>
            <a:chExt cx="4525920" cy="1409040"/>
          </a:xfrm>
        </p:grpSpPr>
        <p:grpSp>
          <p:nvGrpSpPr>
            <p:cNvPr id="124" name=""/>
            <p:cNvGrpSpPr/>
            <p:nvPr/>
          </p:nvGrpSpPr>
          <p:grpSpPr>
            <a:xfrm>
              <a:off x="2174040" y="5886000"/>
              <a:ext cx="519120" cy="704520"/>
              <a:chOff x="2174040" y="5886000"/>
              <a:chExt cx="519120" cy="7045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2460600" y="588600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74040" y="6130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2463840" y="5581800"/>
              <a:ext cx="228600" cy="30456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92440" y="5477040"/>
              <a:ext cx="3352680" cy="3902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5880" y="5486400"/>
              <a:ext cx="38124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32160" y="533412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51814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2452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6180840" y="5882760"/>
              <a:ext cx="519120" cy="704520"/>
              <a:chOff x="6180840" y="5882760"/>
              <a:chExt cx="519120" cy="7045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467400" y="588276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180840" y="61275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38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6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141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144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147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150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153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88620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157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160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163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166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169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172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71600" y="1981080"/>
            <a:ext cx="6553080" cy="914400"/>
            <a:chOff x="1371600" y="1981080"/>
            <a:chExt cx="6553080" cy="914400"/>
          </a:xfrm>
        </p:grpSpPr>
        <p:sp>
          <p:nvSpPr>
            <p:cNvPr id="177" name=""/>
            <p:cNvSpPr/>
            <p:nvPr/>
          </p:nvSpPr>
          <p:spPr>
            <a:xfrm>
              <a:off x="1371600" y="19810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9 +         = 93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86200" y="21337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371600" y="2895480"/>
            <a:ext cx="6553080" cy="914400"/>
            <a:chOff x="1371600" y="2895480"/>
            <a:chExt cx="6553080" cy="914400"/>
          </a:xfrm>
        </p:grpSpPr>
        <p:sp>
          <p:nvSpPr>
            <p:cNvPr id="180" name=""/>
            <p:cNvSpPr/>
            <p:nvPr/>
          </p:nvSpPr>
          <p:spPr>
            <a:xfrm>
              <a:off x="1371600" y="28954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7 +         = 5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200" y="30481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3809880"/>
            <a:ext cx="6553080" cy="914400"/>
            <a:chOff x="1371600" y="3809880"/>
            <a:chExt cx="6553080" cy="914400"/>
          </a:xfrm>
        </p:grpSpPr>
        <p:sp>
          <p:nvSpPr>
            <p:cNvPr id="183" name=""/>
            <p:cNvSpPr/>
            <p:nvPr/>
          </p:nvSpPr>
          <p:spPr>
            <a:xfrm>
              <a:off x="1371600" y="38098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6 +         = 8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9625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4724280"/>
            <a:ext cx="6553080" cy="914400"/>
            <a:chOff x="1371600" y="4724280"/>
            <a:chExt cx="6553080" cy="914400"/>
          </a:xfrm>
        </p:grpSpPr>
        <p:sp>
          <p:nvSpPr>
            <p:cNvPr id="186" name=""/>
            <p:cNvSpPr/>
            <p:nvPr/>
          </p:nvSpPr>
          <p:spPr>
            <a:xfrm>
              <a:off x="1371600" y="47242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5 +         = 72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86200" y="48769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371600" y="5638680"/>
            <a:ext cx="6553080" cy="914400"/>
            <a:chOff x="1371600" y="5638680"/>
            <a:chExt cx="6553080" cy="914400"/>
          </a:xfrm>
        </p:grpSpPr>
        <p:sp>
          <p:nvSpPr>
            <p:cNvPr id="189" name=""/>
            <p:cNvSpPr/>
            <p:nvPr/>
          </p:nvSpPr>
          <p:spPr>
            <a:xfrm>
              <a:off x="1371600" y="5638680"/>
              <a:ext cx="6553080" cy="914400"/>
            </a:xfrm>
            <a:prstGeom prst="rect">
              <a:avLst/>
            </a:prstGeom>
            <a:solidFill>
              <a:srgbClr val="3333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     </a:t>
              </a: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 +         = 64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6200" y="5791320"/>
              <a:ext cx="91440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860640" y="2006640"/>
            <a:ext cx="1143000" cy="4495680"/>
            <a:chOff x="3860640" y="2006640"/>
            <a:chExt cx="1143000" cy="4495680"/>
          </a:xfrm>
        </p:grpSpPr>
        <p:sp>
          <p:nvSpPr>
            <p:cNvPr id="192" name=""/>
            <p:cNvSpPr/>
            <p:nvPr/>
          </p:nvSpPr>
          <p:spPr>
            <a:xfrm>
              <a:off x="3860640" y="20066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5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60640" y="29210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2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60640" y="38354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3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60640" y="47498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1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60640" y="5664240"/>
              <a:ext cx="1143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Stone Sans ITC TT-Semi"/>
                </a:rPr>
                <a:t>4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Materials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1 - 4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52280" y="4016520"/>
            <a:ext cx="8839440" cy="55548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3732840" y="4022280"/>
            <a:ext cx="519120" cy="1120680"/>
            <a:chOff x="3732840" y="4022280"/>
            <a:chExt cx="519120" cy="1120680"/>
          </a:xfrm>
        </p:grpSpPr>
        <p:sp>
          <p:nvSpPr>
            <p:cNvPr id="202" name=""/>
            <p:cNvSpPr/>
            <p:nvPr/>
          </p:nvSpPr>
          <p:spPr>
            <a:xfrm flipV="1">
              <a:off x="40194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328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936480" y="4022280"/>
            <a:ext cx="519120" cy="1120680"/>
            <a:chOff x="6936480" y="4022280"/>
            <a:chExt cx="519120" cy="1120680"/>
          </a:xfrm>
        </p:grpSpPr>
        <p:sp>
          <p:nvSpPr>
            <p:cNvPr id="205" name=""/>
            <p:cNvSpPr/>
            <p:nvPr/>
          </p:nvSpPr>
          <p:spPr>
            <a:xfrm flipV="1">
              <a:off x="72230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364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4019400" y="3772080"/>
            <a:ext cx="381240" cy="2664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00640" y="358776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3581280"/>
            <a:ext cx="83808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3581280"/>
            <a:ext cx="838440" cy="444600"/>
          </a:xfrm>
          <a:custGeom>
            <a:avLst/>
            <a:gdLst/>
            <a:ahLst/>
            <a:rect l="l" t="t" r="r" b="b"/>
            <a:pathLst>
              <a:path w="528" h="280">
                <a:moveTo>
                  <a:pt x="0" y="280"/>
                </a:moveTo>
                <a:cubicBezTo>
                  <a:pt x="40" y="180"/>
                  <a:pt x="80" y="80"/>
                  <a:pt x="144" y="40"/>
                </a:cubicBezTo>
                <a:cubicBezTo>
                  <a:pt x="208" y="0"/>
                  <a:pt x="320" y="0"/>
                  <a:pt x="384" y="40"/>
                </a:cubicBezTo>
                <a:cubicBezTo>
                  <a:pt x="448" y="80"/>
                  <a:pt x="488" y="180"/>
                  <a:pt x="528" y="2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34320" y="3816360"/>
            <a:ext cx="304560" cy="216000"/>
          </a:xfrm>
          <a:custGeom>
            <a:avLst/>
            <a:gdLst/>
            <a:ahLst/>
            <a:rect l="l" t="t" r="r" b="b"/>
            <a:pathLst>
              <a:path w="240" h="168">
                <a:moveTo>
                  <a:pt x="0" y="168"/>
                </a:moveTo>
                <a:cubicBezTo>
                  <a:pt x="8" y="108"/>
                  <a:pt x="16" y="48"/>
                  <a:pt x="48" y="24"/>
                </a:cubicBezTo>
                <a:cubicBezTo>
                  <a:pt x="80" y="0"/>
                  <a:pt x="160" y="0"/>
                  <a:pt x="192" y="24"/>
                </a:cubicBezTo>
                <a:cubicBezTo>
                  <a:pt x="224" y="48"/>
                  <a:pt x="232" y="108"/>
                  <a:pt x="240" y="1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50532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738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80200" y="32767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35496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3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593080" y="4022280"/>
            <a:ext cx="519120" cy="1120680"/>
            <a:chOff x="2593080" y="4022280"/>
            <a:chExt cx="519120" cy="1120680"/>
          </a:xfrm>
        </p:grpSpPr>
        <p:sp>
          <p:nvSpPr>
            <p:cNvPr id="220" name=""/>
            <p:cNvSpPr/>
            <p:nvPr/>
          </p:nvSpPr>
          <p:spPr>
            <a:xfrm flipV="1">
              <a:off x="287964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9308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314040" y="4022280"/>
            <a:ext cx="519120" cy="1120680"/>
            <a:chOff x="6314040" y="4022280"/>
            <a:chExt cx="519120" cy="1120680"/>
          </a:xfrm>
        </p:grpSpPr>
        <p:sp>
          <p:nvSpPr>
            <p:cNvPr id="223" name=""/>
            <p:cNvSpPr/>
            <p:nvPr/>
          </p:nvSpPr>
          <p:spPr>
            <a:xfrm flipV="1">
              <a:off x="6600600" y="4022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4040" y="46832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870280" y="3352680"/>
            <a:ext cx="272880" cy="685800"/>
            <a:chOff x="2870280" y="3352680"/>
            <a:chExt cx="272880" cy="685800"/>
          </a:xfrm>
        </p:grpSpPr>
        <p:sp>
          <p:nvSpPr>
            <p:cNvPr id="226" name=""/>
            <p:cNvSpPr/>
            <p:nvPr/>
          </p:nvSpPr>
          <p:spPr>
            <a:xfrm>
              <a:off x="2914560" y="3657600"/>
              <a:ext cx="228600" cy="38088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70280" y="335268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149640" y="3232080"/>
            <a:ext cx="1498680" cy="806400"/>
            <a:chOff x="3149640" y="3232080"/>
            <a:chExt cx="1498680" cy="806400"/>
          </a:xfrm>
        </p:grpSpPr>
        <p:sp>
          <p:nvSpPr>
            <p:cNvPr id="229" name=""/>
            <p:cNvSpPr/>
            <p:nvPr/>
          </p:nvSpPr>
          <p:spPr>
            <a:xfrm>
              <a:off x="3149640" y="3505320"/>
              <a:ext cx="149868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323208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140520" y="3308400"/>
            <a:ext cx="457200" cy="730080"/>
            <a:chOff x="6140520" y="3308400"/>
            <a:chExt cx="457200" cy="730080"/>
          </a:xfrm>
        </p:grpSpPr>
        <p:sp>
          <p:nvSpPr>
            <p:cNvPr id="232" name=""/>
            <p:cNvSpPr/>
            <p:nvPr/>
          </p:nvSpPr>
          <p:spPr>
            <a:xfrm>
              <a:off x="6140520" y="3581280"/>
              <a:ext cx="457200" cy="4572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10360" y="3308400"/>
              <a:ext cx="24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587600" y="4038480"/>
            <a:ext cx="339120" cy="621720"/>
            <a:chOff x="1587600" y="4038480"/>
            <a:chExt cx="339120" cy="621720"/>
          </a:xfrm>
        </p:grpSpPr>
        <p:sp>
          <p:nvSpPr>
            <p:cNvPr id="235" name=""/>
            <p:cNvSpPr/>
            <p:nvPr/>
          </p:nvSpPr>
          <p:spPr>
            <a:xfrm>
              <a:off x="1587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826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67200" y="4038480"/>
            <a:ext cx="339120" cy="621720"/>
            <a:chOff x="3067200" y="4038480"/>
            <a:chExt cx="339120" cy="621720"/>
          </a:xfrm>
        </p:grpSpPr>
        <p:sp>
          <p:nvSpPr>
            <p:cNvPr id="238" name=""/>
            <p:cNvSpPr/>
            <p:nvPr/>
          </p:nvSpPr>
          <p:spPr>
            <a:xfrm>
              <a:off x="30672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6404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548600" y="4038480"/>
            <a:ext cx="339120" cy="621720"/>
            <a:chOff x="4548600" y="4038480"/>
            <a:chExt cx="339120" cy="621720"/>
          </a:xfrm>
        </p:grpSpPr>
        <p:sp>
          <p:nvSpPr>
            <p:cNvPr id="241" name=""/>
            <p:cNvSpPr/>
            <p:nvPr/>
          </p:nvSpPr>
          <p:spPr>
            <a:xfrm>
              <a:off x="454860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43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027840" y="4038480"/>
            <a:ext cx="339120" cy="621720"/>
            <a:chOff x="6027840" y="4038480"/>
            <a:chExt cx="339120" cy="621720"/>
          </a:xfrm>
        </p:grpSpPr>
        <p:sp>
          <p:nvSpPr>
            <p:cNvPr id="244" name=""/>
            <p:cNvSpPr/>
            <p:nvPr/>
          </p:nvSpPr>
          <p:spPr>
            <a:xfrm>
              <a:off x="60278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1246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7509240" y="4038480"/>
            <a:ext cx="339120" cy="621720"/>
            <a:chOff x="7509240" y="4038480"/>
            <a:chExt cx="339120" cy="621720"/>
          </a:xfrm>
        </p:grpSpPr>
        <p:sp>
          <p:nvSpPr>
            <p:cNvPr id="247" name=""/>
            <p:cNvSpPr/>
            <p:nvPr/>
          </p:nvSpPr>
          <p:spPr>
            <a:xfrm>
              <a:off x="7509240" y="429408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04280" y="40384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648320" y="3225960"/>
            <a:ext cx="1498320" cy="812520"/>
            <a:chOff x="4648320" y="3225960"/>
            <a:chExt cx="1498320" cy="812520"/>
          </a:xfrm>
        </p:grpSpPr>
        <p:sp>
          <p:nvSpPr>
            <p:cNvPr id="250" name=""/>
            <p:cNvSpPr/>
            <p:nvPr/>
          </p:nvSpPr>
          <p:spPr>
            <a:xfrm>
              <a:off x="5194440" y="32259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505320"/>
              <a:ext cx="1498320" cy="53316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447920" y="403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4 - 3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g - subtra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3 - 2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43084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73840" y="3505320"/>
            <a:ext cx="4548240" cy="1507320"/>
            <a:chOff x="2373840" y="3505320"/>
            <a:chExt cx="4548240" cy="1507320"/>
          </a:xfrm>
        </p:grpSpPr>
        <p:grpSp>
          <p:nvGrpSpPr>
            <p:cNvPr id="262" name=""/>
            <p:cNvGrpSpPr/>
            <p:nvPr/>
          </p:nvGrpSpPr>
          <p:grpSpPr>
            <a:xfrm>
              <a:off x="2373840" y="4292280"/>
              <a:ext cx="519120" cy="704520"/>
              <a:chOff x="2373840" y="4292280"/>
              <a:chExt cx="519120" cy="70452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2660400" y="429228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373840" y="45370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681280" y="3933720"/>
              <a:ext cx="461880" cy="390600"/>
            </a:xfrm>
            <a:custGeom>
              <a:avLst/>
              <a:gdLst/>
              <a:ahLst/>
              <a:rect l="l" t="t" r="r" b="b"/>
              <a:pathLst>
                <a:path w="240" h="168">
                  <a:moveTo>
                    <a:pt x="0" y="168"/>
                  </a:moveTo>
                  <a:cubicBezTo>
                    <a:pt x="8" y="108"/>
                    <a:pt x="16" y="48"/>
                    <a:pt x="48" y="24"/>
                  </a:cubicBezTo>
                  <a:cubicBezTo>
                    <a:pt x="80" y="0"/>
                    <a:pt x="160" y="0"/>
                    <a:pt x="192" y="24"/>
                  </a:cubicBezTo>
                  <a:cubicBezTo>
                    <a:pt x="224" y="48"/>
                    <a:pt x="232" y="108"/>
                    <a:pt x="240" y="16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81360" y="3622680"/>
              <a:ext cx="4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43160" y="3770280"/>
              <a:ext cx="3022560" cy="554040"/>
            </a:xfrm>
            <a:custGeom>
              <a:avLst/>
              <a:gdLst/>
              <a:ahLst/>
              <a:rect l="l" t="t" r="r" b="b"/>
              <a:pathLst>
                <a:path w="528" h="280">
                  <a:moveTo>
                    <a:pt x="0" y="280"/>
                  </a:moveTo>
                  <a:cubicBezTo>
                    <a:pt x="40" y="180"/>
                    <a:pt x="80" y="80"/>
                    <a:pt x="144" y="40"/>
                  </a:cubicBezTo>
                  <a:cubicBezTo>
                    <a:pt x="208" y="0"/>
                    <a:pt x="320" y="0"/>
                    <a:pt x="384" y="40"/>
                  </a:cubicBezTo>
                  <a:cubicBezTo>
                    <a:pt x="448" y="80"/>
                    <a:pt x="488" y="180"/>
                    <a:pt x="528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75160" y="3505320"/>
              <a:ext cx="92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0520" y="3578040"/>
              <a:ext cx="564840" cy="730080"/>
              <a:chOff x="6140520" y="3578040"/>
              <a:chExt cx="564840" cy="730080"/>
            </a:xfrm>
          </p:grpSpPr>
          <p:sp>
            <p:nvSpPr>
              <p:cNvPr id="270" name=""/>
              <p:cNvSpPr/>
              <p:nvPr/>
            </p:nvSpPr>
            <p:spPr>
              <a:xfrm>
                <a:off x="6140520" y="3850920"/>
                <a:ext cx="564840" cy="457200"/>
              </a:xfrm>
              <a:custGeom>
                <a:avLst/>
                <a:gdLst/>
                <a:ahLst/>
                <a:rect l="l" t="t" r="r" b="b"/>
                <a:pathLst>
                  <a:path w="240" h="168">
                    <a:moveTo>
                      <a:pt x="0" y="168"/>
                    </a:moveTo>
                    <a:cubicBezTo>
                      <a:pt x="8" y="108"/>
                      <a:pt x="16" y="48"/>
                      <a:pt x="48" y="24"/>
                    </a:cubicBezTo>
                    <a:cubicBezTo>
                      <a:pt x="80" y="0"/>
                      <a:pt x="160" y="0"/>
                      <a:pt x="192" y="24"/>
                    </a:cubicBezTo>
                    <a:cubicBezTo>
                      <a:pt x="224" y="48"/>
                      <a:pt x="232" y="108"/>
                      <a:pt x="240" y="16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6560" y="3578040"/>
                <a:ext cx="302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67200" y="4308480"/>
              <a:ext cx="339120" cy="621360"/>
              <a:chOff x="3067200" y="4308480"/>
              <a:chExt cx="339120" cy="621360"/>
            </a:xfrm>
          </p:grpSpPr>
          <p:sp>
            <p:nvSpPr>
              <p:cNvPr id="273" name=""/>
              <p:cNvSpPr/>
              <p:nvPr/>
            </p:nvSpPr>
            <p:spPr>
              <a:xfrm>
                <a:off x="306720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16404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6027840" y="4308480"/>
              <a:ext cx="339120" cy="621360"/>
              <a:chOff x="6027840" y="4308480"/>
              <a:chExt cx="339120" cy="621360"/>
            </a:xfrm>
          </p:grpSpPr>
          <p:sp>
            <p:nvSpPr>
              <p:cNvPr id="276" name=""/>
              <p:cNvSpPr/>
              <p:nvPr/>
            </p:nvSpPr>
            <p:spPr>
              <a:xfrm>
                <a:off x="6027840" y="4563720"/>
                <a:ext cx="339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124680" y="430848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6402960" y="4308120"/>
              <a:ext cx="519120" cy="704520"/>
              <a:chOff x="6402960" y="4308120"/>
              <a:chExt cx="519120" cy="704520"/>
            </a:xfrm>
          </p:grpSpPr>
          <p:sp>
            <p:nvSpPr>
              <p:cNvPr id="279" name=""/>
              <p:cNvSpPr/>
              <p:nvPr/>
            </p:nvSpPr>
            <p:spPr>
              <a:xfrm flipV="1">
                <a:off x="6689520" y="4308120"/>
                <a:ext cx="0" cy="32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02960" y="455292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Number Proper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9800" y="3254400"/>
            <a:ext cx="468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3 to get to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0 to get to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 to get to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71600" y="1981080"/>
            <a:ext cx="6553080" cy="9144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82 - 1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2133720"/>
            <a:ext cx="914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72280" y="1981080"/>
            <a:ext cx="1143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tone Sans ITC TT-Semi"/>
              </a:rPr>
              <a:t>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ake Ten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(stage 5)</a:t>
            </a:r>
            <a:br>
              <a:rPr sz="4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out the answers by finding out pairs of numbers that add up to 10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5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8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1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2 +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7 + 4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 +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8 + 5 + 2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 + 3 + 5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 + 16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2 + 8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4 + 2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 + 3 + 7 + 1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9 + 7 + 21 + 1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 + 3 + 17 + 2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3 + 7 + 17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 + 7 + 11 + 8 +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 + 38 + 5 + 2 + 1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7 + 44 + 23 + 7 + 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Using d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 and complete doubles up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  +  1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2  +  2  =   ………   10 + 1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ow answer these questions (almost dou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  +  8 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.     5 + 6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5 + 16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.    17 + 1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 + 9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8  + 1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  + 7 =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6 + 1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py and complete the gr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6680" y="175248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s shown are the totals of the line of four numbers in the row or colum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the remaining tot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624852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8672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range the numbers 1-9 to make three 3 digit numbers that add up to 99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59280" y="2781360"/>
          <a:ext cx="3097080" cy="2679480"/>
        </p:xfrm>
        <a:graphic>
          <a:graphicData uri="http://schemas.openxmlformats.org/drawingml/2006/table">
            <a:tbl>
              <a:tblPr/>
              <a:tblGrid>
                <a:gridCol w="1032480"/>
                <a:gridCol w="1032120"/>
                <a:gridCol w="1032480"/>
              </a:tblGrid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68400" y="26485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752480"/>
          <a:ext cx="7315200" cy="4267440"/>
        </p:xfrm>
        <a:graphic>
          <a:graphicData uri="http://schemas.openxmlformats.org/drawingml/2006/table">
            <a:tbl>
              <a:tblPr/>
              <a:tblGrid>
                <a:gridCol w="7315200"/>
              </a:tblGrid>
              <a:tr h="49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           82             65              8          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          21              88             51         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          92             35             18           7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343080"/>
                          <a:tab algn="ctr" pos="571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en-A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         49             12             79           6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</a:rPr>
              <a:t>Adding Compatibles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nd pairs of numbers that total 1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50          700           810         501          95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50          650            125          222           305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0          499            190            300            550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695          778            875          350           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 Sticky Problem</a:t>
            </a:r>
            <a:br>
              <a:rPr sz="4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chel is helping to raise funds for her school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has made 40 pieces of fudge.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he can’t decide how many pieces to put into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1.     She puts 10 pieces in each b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he tries putting six pieces in each bag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any bags of fudge does she hav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ll there be any pieces of fudge left o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she put eight pieces of fudge in each bag, how many bags of fudge would Rachel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4.    If she decided to sell the fudge for 10 cents a piece, how much money would she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   T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 fudge ingredients cost $1.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will Rachel make at 10 cents a pie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.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chel’s brother eats three pieces of fudge before Rachel has time to pack it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w much profit does Rachel mak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11T01:19:4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